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107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0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122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114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9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115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116.xml.rels" ContentType="application/vnd.openxmlformats-package.relationships+xml"/>
  <Override PartName="/ppt/slideMasters/_rels/slideMaster120.xml.rels" ContentType="application/vnd.openxmlformats-package.relationships+xml"/>
  <Override PartName="/ppt/slideMasters/_rels/slideMaster117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8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21.xml.rels" ContentType="application/vnd.openxmlformats-package.relationships+xml"/>
  <Override PartName="/ppt/slideMasters/_rels/slideMaster112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111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110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0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99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119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118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10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08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122.xml" ContentType="application/vnd.openxmlformats-officedocument.presentationml.slideMaster+xml"/>
  <Override PartName="/ppt/slideMasters/slideMaster117.xml" ContentType="application/vnd.openxmlformats-officedocument.presentationml.slideMaster+xml"/>
  <Override PartName="/ppt/slideMasters/slideMaster111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16.xml" ContentType="application/vnd.openxmlformats-officedocument.presentationml.slideMaster+xml"/>
  <Override PartName="/ppt/slideMasters/slideMaster110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121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115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120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114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113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112.xml" ContentType="application/vnd.openxmlformats-officedocument.presentationml.slideMaster+xml"/>
  <Override PartName="/ppt/slideMasters/slideMaster107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109.xml" ContentType="application/vnd.openxmlformats-officedocument.theme+xml"/>
  <Override PartName="/ppt/theme/theme51.xml" ContentType="application/vnd.openxmlformats-officedocument.theme+xml"/>
  <Override PartName="/ppt/theme/theme108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59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4.xml" ContentType="application/vnd.openxmlformats-officedocument.theme+xml"/>
  <Override PartName="/ppt/theme/theme88.xml" ContentType="application/vnd.openxmlformats-officedocument.theme+xml"/>
  <Override PartName="/ppt/theme/theme79.xml" ContentType="application/vnd.openxmlformats-officedocument.theme+xml"/>
  <Override PartName="/ppt/theme/theme98.xml" ContentType="application/vnd.openxmlformats-officedocument.theme+xml"/>
  <Override PartName="/ppt/theme/theme100.xml" ContentType="application/vnd.openxmlformats-officedocument.theme+xml"/>
  <Override PartName="/ppt/theme/theme89.xml" ContentType="application/vnd.openxmlformats-officedocument.theme+xml"/>
  <Override PartName="/ppt/theme/theme65.xml" ContentType="application/vnd.openxmlformats-officedocument.theme+xml"/>
  <Override PartName="/ppt/theme/theme101.xml" ContentType="application/vnd.openxmlformats-officedocument.theme+xml"/>
  <Override PartName="/ppt/theme/theme102.xml" ContentType="application/vnd.openxmlformats-officedocument.theme+xml"/>
  <Override PartName="/ppt/theme/theme103.xml" ContentType="application/vnd.openxmlformats-officedocument.theme+xml"/>
  <Override PartName="/ppt/theme/theme123.xml" ContentType="application/vnd.openxmlformats-officedocument.theme+xml"/>
  <Override PartName="/ppt/theme/theme78.xml" ContentType="application/vnd.openxmlformats-officedocument.theme+xml"/>
  <Override PartName="/ppt/theme/theme111.xml" ContentType="application/vnd.openxmlformats-officedocument.theme+xml"/>
  <Override PartName="/ppt/theme/theme66.xml" ContentType="application/vnd.openxmlformats-officedocument.theme+xml"/>
  <Override PartName="/ppt/theme/theme122.xml" ContentType="application/vnd.openxmlformats-officedocument.theme+xml"/>
  <Override PartName="/ppt/theme/theme77.xml" ContentType="application/vnd.openxmlformats-officedocument.theme+xml"/>
  <Override PartName="/ppt/theme/theme121.xml" ContentType="application/vnd.openxmlformats-officedocument.theme+xml"/>
  <Override PartName="/ppt/theme/theme76.xml" ContentType="application/vnd.openxmlformats-officedocument.theme+xml"/>
  <Override PartName="/ppt/theme/theme110.xml" ContentType="application/vnd.openxmlformats-officedocument.theme+xml"/>
  <Override PartName="/ppt/theme/theme99.xml" ContentType="application/vnd.openxmlformats-officedocument.theme+xml"/>
  <Override PartName="/ppt/theme/theme120.xml" ContentType="application/vnd.openxmlformats-officedocument.theme+xml"/>
  <Override PartName="/ppt/theme/theme75.xml" ContentType="application/vnd.openxmlformats-officedocument.theme+xml"/>
  <Override PartName="/ppt/theme/theme97.xml" ContentType="application/vnd.openxmlformats-officedocument.theme+xml"/>
  <Override PartName="/ppt/theme/theme116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96.xml" ContentType="application/vnd.openxmlformats-officedocument.theme+xml"/>
  <Override PartName="/ppt/theme/theme115.xml" ContentType="application/vnd.openxmlformats-officedocument.theme+xml"/>
  <Override PartName="/ppt/theme/theme95.xml" ContentType="application/vnd.openxmlformats-officedocument.theme+xml"/>
  <Override PartName="/ppt/theme/theme114.xml" ContentType="application/vnd.openxmlformats-officedocument.theme+xml"/>
  <Override PartName="/ppt/theme/theme69.xml" ContentType="application/vnd.openxmlformats-officedocument.theme+xml"/>
  <Override PartName="/ppt/theme/theme113.xml" ContentType="application/vnd.openxmlformats-officedocument.theme+xml"/>
  <Override PartName="/ppt/theme/theme68.xml" ContentType="application/vnd.openxmlformats-officedocument.theme+xml"/>
  <Override PartName="/ppt/theme/theme112.xml" ContentType="application/vnd.openxmlformats-officedocument.theme+xml"/>
  <Override PartName="/ppt/theme/theme67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74.xml" ContentType="application/vnd.openxmlformats-officedocument.theme+xml"/>
  <Override PartName="/ppt/theme/theme73.xml" ContentType="application/vnd.openxmlformats-officedocument.theme+xml"/>
  <Override PartName="/ppt/theme/theme72.xml" ContentType="application/vnd.openxmlformats-officedocument.theme+xml"/>
  <Override PartName="/ppt/theme/theme71.xml" ContentType="application/vnd.openxmlformats-officedocument.theme+xml"/>
  <Override PartName="/ppt/theme/theme70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62.xml" ContentType="application/vnd.openxmlformats-officedocument.theme+xml"/>
  <Override PartName="/ppt/theme/theme119.xml" ContentType="application/vnd.openxmlformats-officedocument.theme+xml"/>
  <Override PartName="/ppt/theme/theme61.xml" ContentType="application/vnd.openxmlformats-officedocument.theme+xml"/>
  <Override PartName="/ppt/theme/theme118.xml" ContentType="application/vnd.openxmlformats-officedocument.theme+xml"/>
  <Override PartName="/ppt/theme/theme60.xml" ContentType="application/vnd.openxmlformats-officedocument.theme+xml"/>
  <Override PartName="/ppt/theme/theme117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8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288.xml.rels" ContentType="application/vnd.openxmlformats-package.relationships+xml"/>
  <Override PartName="/ppt/slideLayouts/_rels/slideLayout1287.xml.rels" ContentType="application/vnd.openxmlformats-package.relationships+xml"/>
  <Override PartName="/ppt/slideLayouts/_rels/slideLayout1286.xml.rels" ContentType="application/vnd.openxmlformats-package.relationships+xml"/>
  <Override PartName="/ppt/slideLayouts/_rels/slideLayout1285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27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1278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12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27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347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359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49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46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456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55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454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43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42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459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458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379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4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39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09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3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464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369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368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367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420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36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0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427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37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1377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33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33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408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07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389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1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37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317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07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130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364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36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305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43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44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358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447.xml.rels" ContentType="application/vnd.openxmlformats-package.relationships+xml"/>
  <Override PartName="/ppt/slideLayouts/_rels/slideLayout129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35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37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318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356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297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5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446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445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4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1444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366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290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29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1354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42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129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43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142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296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45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37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316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136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304.xml.rels" ContentType="application/vnd.openxmlformats-package.relationships+xml"/>
  <Override PartName="/ppt/slideLayouts/_rels/slideLayout134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365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346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33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337.xml.rels" ContentType="application/vnd.openxmlformats-package.relationships+xml"/>
  <Override PartName="/ppt/slideLayouts/_rels/slideLayout1328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1327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8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2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29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24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25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1383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426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43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9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95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138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40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138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0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1293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144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280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301.xml.rels" ContentType="application/vnd.openxmlformats-package.relationships+xml"/>
  <Override PartName="/ppt/slideLayouts/_rels/slideLayout145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1452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1350.xml.rels" ContentType="application/vnd.openxmlformats-package.relationships+xml"/>
  <Override PartName="/ppt/slideLayouts/_rels/slideLayout1370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1310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1398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1311.xml.rels" ContentType="application/vnd.openxmlformats-package.relationships+xml"/>
  <Override PartName="/ppt/slideLayouts/_rels/slideLayout139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31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143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314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137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146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1463.xml.rels" ContentType="application/vnd.openxmlformats-package.relationships+xml"/>
  <Override PartName="/ppt/slideLayouts/_rels/slideLayout1360.xml.rels" ContentType="application/vnd.openxmlformats-package.relationships+xml"/>
  <Override PartName="/ppt/slideLayouts/_rels/slideLayout1302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1361.xml.rels" ContentType="application/vnd.openxmlformats-package.relationships+xml"/>
  <Override PartName="/ppt/slideLayouts/_rels/slideLayout1303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319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1322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1323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34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373.xml.rels" ContentType="application/vnd.openxmlformats-package.relationships+xml"/>
  <Override PartName="/ppt/slideLayouts/_rels/slideLayout1315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342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330.xml.rels" ContentType="application/vnd.openxmlformats-package.relationships+xml"/>
  <Override PartName="/ppt/slideLayouts/_rels/slideLayout1416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283.xml.rels" ContentType="application/vnd.openxmlformats-package.relationships+xml"/>
  <Override PartName="/ppt/slideLayouts/_rels/slideLayout1320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423.xml.rels" ContentType="application/vnd.openxmlformats-package.relationships+xml"/>
  <Override PartName="/ppt/slideLayouts/_rels/slideLayout1275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417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1321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292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1313.xml.rels" ContentType="application/vnd.openxmlformats-package.relationships+xml"/>
  <Override PartName="/ppt/slideLayouts/_rels/slideLayout146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403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404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1421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1281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4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309.xml.rels" ContentType="application/vnd.openxmlformats-package.relationships+xml"/>
  <Override PartName="/ppt/slideLayouts/_rels/slideLayout1413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392.xml.rels" ContentType="application/vnd.openxmlformats-package.relationships+xml"/>
  <Override PartName="/ppt/slideLayouts/_rels/slideLayout14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1332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18.xml.rels" ContentType="application/vnd.openxmlformats-package.relationships+xml"/>
  <Override PartName="/ppt/slideLayouts/_rels/slideLayout1422.xml.rels" ContentType="application/vnd.openxmlformats-package.relationships+xml"/>
  <Override PartName="/ppt/slideLayouts/_rels/slideLayout1274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40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1450.xml.rels" ContentType="application/vnd.openxmlformats-package.relationships+xml"/>
  <Override PartName="/ppt/slideLayouts/_rels/slideLayout143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1410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340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343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94.xml.rels" ContentType="application/vnd.openxmlformats-package.relationships+xml"/>
  <Override PartName="/ppt/slideLayouts/_rels/slideLayout1308.xml.rels" ContentType="application/vnd.openxmlformats-package.relationships+xml"/>
  <Override PartName="/ppt/slideLayouts/_rels/slideLayout1391.xml.rels" ContentType="application/vnd.openxmlformats-package.relationships+xml"/>
  <Override PartName="/ppt/slideLayouts/_rels/slideLayout14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1351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1371.xml.rels" ContentType="application/vnd.openxmlformats-package.relationships+xml"/>
  <Override PartName="/ppt/slideLayouts/_rels/slideLayout1411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143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1352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38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1402.xml.rels" ContentType="application/vnd.openxmlformats-package.relationships+xml"/>
  <Override PartName="/ppt/slideLayouts/_rels/slideLayout138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453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353.xml.rels" ContentType="application/vnd.openxmlformats-package.relationships+xml"/>
  <Override PartName="/ppt/slideLayouts/_rels/slideLayout12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331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384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127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143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8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36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395.xml.rels" ContentType="application/vnd.openxmlformats-package.relationships+xml"/>
  <Override PartName="/ppt/slideLayouts/_rels/slideLayout1415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394.xml.rels" ContentType="application/vnd.openxmlformats-package.relationships+xml"/>
  <Override PartName="/ppt/slideLayouts/_rels/slideLayout1414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397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139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8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29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406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4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1464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935.xml" ContentType="application/vnd.openxmlformats-officedocument.presentationml.slideLayout+xml"/>
  <Override PartName="/ppt/slideLayouts/slideLayout1459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1458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1457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1456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1455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145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449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1448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1447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1446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1445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144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439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1438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1437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1436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1435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143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429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1428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1427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1426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1425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1424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379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1378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1377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1376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1375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1374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1368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1367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1366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1365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1364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1358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1357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1356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1355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1354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1348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1347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1346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1345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1344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1338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1337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1336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1335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1334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1328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1327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1326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1325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1324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1299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1298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1297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1296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129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330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38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130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80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138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1307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340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1281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130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350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1291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399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1290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1398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1443.xml" ContentType="application/vnd.openxmlformats-officedocument.presentationml.slideLayout+xml"/>
  <Override PartName="/ppt/slideLayouts/slideLayout1453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13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37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314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38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1322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139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32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139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33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1315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92.xml" ContentType="application/vnd.openxmlformats-officedocument.presentationml.slideLayout+xml"/>
  <Override PartName="/ppt/slideLayouts/slideLayout1293.xml" ContentType="application/vnd.openxmlformats-officedocument.presentationml.slideLayout+xml"/>
  <Override PartName="/ppt/slideLayouts/slideLayout1331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1332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3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34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1342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1410.xml" ContentType="application/vnd.openxmlformats-officedocument.presentationml.slideLayout+xml"/>
  <Override PartName="/ppt/slideLayouts/slideLayout1411.xml" ContentType="application/vnd.openxmlformats-officedocument.presentationml.slideLayout+xml"/>
  <Override PartName="/ppt/slideLayouts/slideLayout1412.xml" ContentType="application/vnd.openxmlformats-officedocument.presentationml.slideLayout+xml"/>
  <Override PartName="/ppt/slideLayouts/slideLayout132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128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131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138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131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138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423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13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460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414.xml" ContentType="application/vnd.openxmlformats-officedocument.presentationml.slideLayout+xml"/>
  <Override PartName="/ppt/slideLayouts/slideLayout1420.xml" ContentType="application/vnd.openxmlformats-officedocument.presentationml.slideLayout+xml"/>
  <Override PartName="/ppt/slideLayouts/slideLayout1421.xml" ContentType="application/vnd.openxmlformats-officedocument.presentationml.slideLayout+xml"/>
  <Override PartName="/ppt/slideLayouts/slideLayout1422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430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431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432.xml" ContentType="application/vnd.openxmlformats-officedocument.presentationml.slideLayout+xml"/>
  <Override PartName="/ppt/slideLayouts/slideLayout1463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136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1451.xml" ContentType="application/vnd.openxmlformats-officedocument.presentationml.slideLayout+xml"/>
  <Override PartName="/ppt/slideLayouts/slideLayout146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360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450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1303.xml" ContentType="application/vnd.openxmlformats-officedocument.presentationml.slideLayout+xml"/>
  <Override PartName="/ppt/slideLayouts/slideLayout137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413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461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37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4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309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137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302.xml" ContentType="application/vnd.openxmlformats-officedocument.presentationml.slideLayout+xml"/>
  <Override PartName="/ppt/slideLayouts/slideLayout1320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1282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136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405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441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136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1419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452.xml" ContentType="application/vnd.openxmlformats-officedocument.presentationml.slideLayout+xml"/>
  <Override PartName="/ppt/slideLayouts/slideLayout1440.xml" ContentType="application/vnd.openxmlformats-officedocument.presentationml.slideLayout+xml"/>
  <Override PartName="/ppt/slideLayouts/slideLayout1442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38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13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1273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1310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301.xml" ContentType="application/vnd.openxmlformats-officedocument.presentationml.slideLayout+xml"/>
  <Override PartName="/ppt/slideLayouts/slideLayout1353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300.xml" ContentType="application/vnd.openxmlformats-officedocument.presentationml.slideLayout+xml"/>
  <Override PartName="/ppt/slideLayouts/slideLayout1352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40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135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403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402.xml" ContentType="application/vnd.openxmlformats-officedocument.presentationml.slideLayout+xml"/>
  <Override PartName="/ppt/slideLayouts/slideLayout1401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1400.xml" ContentType="application/vnd.openxmlformats-officedocument.presentationml.slideLayout+xml"/>
  <Override PartName="/ppt/slideLayouts/slideLayout139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1317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39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1316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141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417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14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13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1409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40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407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1406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319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318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97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96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138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87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386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85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139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395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1329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339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34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35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36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274.xml" ContentType="application/vnd.openxmlformats-officedocument.presentationml.slideLayout+xml"/>
  <Override PartName="/ppt/slideLayouts/slideLayout127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127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127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127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1279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1284.xml" ContentType="application/vnd.openxmlformats-officedocument.presentationml.slideLayout+xml"/>
  <Override PartName="/ppt/slideLayouts/slideLayout1285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1286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1287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1288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1289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1294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  <p:sldMasterId id="2147485026" r:id="rId108"/>
    <p:sldMasterId id="2147485039" r:id="rId109"/>
    <p:sldMasterId id="2147485052" r:id="rId110"/>
    <p:sldMasterId id="2147485065" r:id="rId111"/>
    <p:sldMasterId id="2147485078" r:id="rId112"/>
    <p:sldMasterId id="2147485091" r:id="rId113"/>
    <p:sldMasterId id="2147485104" r:id="rId114"/>
    <p:sldMasterId id="2147485117" r:id="rId115"/>
    <p:sldMasterId id="2147485130" r:id="rId116"/>
    <p:sldMasterId id="2147485143" r:id="rId117"/>
    <p:sldMasterId id="2147485156" r:id="rId118"/>
    <p:sldMasterId id="2147485169" r:id="rId119"/>
    <p:sldMasterId id="2147485182" r:id="rId120"/>
    <p:sldMasterId id="2147485195" r:id="rId121"/>
    <p:sldMasterId id="2147485208" r:id="rId122"/>
    <p:sldMasterId id="2147485221" r:id="rId123"/>
  </p:sldMasterIdLst>
  <p:notesMasterIdLst>
    <p:notesMasterId r:id="rId124"/>
  </p:notesMasterIdLst>
  <p:sldIdLst>
    <p:sldId id="256" r:id="rId125"/>
    <p:sldId id="257" r:id="rId126"/>
    <p:sldId id="258" r:id="rId127"/>
    <p:sldId id="259" r:id="rId128"/>
    <p:sldId id="260" r:id="rId129"/>
    <p:sldId id="261" r:id="rId130"/>
    <p:sldId id="262" r:id="rId131"/>
    <p:sldId id="263" r:id="rId132"/>
    <p:sldId id="264" r:id="rId133"/>
    <p:sldId id="265" r:id="rId134"/>
    <p:sldId id="266" r:id="rId135"/>
    <p:sldId id="267" r:id="rId136"/>
    <p:sldId id="268" r:id="rId137"/>
    <p:sldId id="269" r:id="rId138"/>
    <p:sldId id="270" r:id="rId139"/>
    <p:sldId id="271" r:id="rId140"/>
    <p:sldId id="272" r:id="rId141"/>
    <p:sldId id="273" r:id="rId142"/>
    <p:sldId id="274" r:id="rId143"/>
    <p:sldId id="275" r:id="rId144"/>
    <p:sldId id="276" r:id="rId145"/>
    <p:sldId id="277" r:id="rId146"/>
    <p:sldId id="278" r:id="rId1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slideMaster" Target="slideMasters/slideMaster107.xml"/><Relationship Id="rId109" Type="http://schemas.openxmlformats.org/officeDocument/2006/relationships/slideMaster" Target="slideMasters/slideMaster108.xml"/><Relationship Id="rId110" Type="http://schemas.openxmlformats.org/officeDocument/2006/relationships/slideMaster" Target="slideMasters/slideMaster109.xml"/><Relationship Id="rId111" Type="http://schemas.openxmlformats.org/officeDocument/2006/relationships/slideMaster" Target="slideMasters/slideMaster110.xml"/><Relationship Id="rId112" Type="http://schemas.openxmlformats.org/officeDocument/2006/relationships/slideMaster" Target="slideMasters/slideMaster111.xml"/><Relationship Id="rId113" Type="http://schemas.openxmlformats.org/officeDocument/2006/relationships/slideMaster" Target="slideMasters/slideMaster112.xml"/><Relationship Id="rId114" Type="http://schemas.openxmlformats.org/officeDocument/2006/relationships/slideMaster" Target="slideMasters/slideMaster113.xml"/><Relationship Id="rId115" Type="http://schemas.openxmlformats.org/officeDocument/2006/relationships/slideMaster" Target="slideMasters/slideMaster114.xml"/><Relationship Id="rId116" Type="http://schemas.openxmlformats.org/officeDocument/2006/relationships/slideMaster" Target="slideMasters/slideMaster115.xml"/><Relationship Id="rId117" Type="http://schemas.openxmlformats.org/officeDocument/2006/relationships/slideMaster" Target="slideMasters/slideMaster116.xml"/><Relationship Id="rId118" Type="http://schemas.openxmlformats.org/officeDocument/2006/relationships/slideMaster" Target="slideMasters/slideMaster117.xml"/><Relationship Id="rId119" Type="http://schemas.openxmlformats.org/officeDocument/2006/relationships/slideMaster" Target="slideMasters/slideMaster118.xml"/><Relationship Id="rId120" Type="http://schemas.openxmlformats.org/officeDocument/2006/relationships/slideMaster" Target="slideMasters/slideMaster119.xml"/><Relationship Id="rId121" Type="http://schemas.openxmlformats.org/officeDocument/2006/relationships/slideMaster" Target="slideMasters/slideMaster120.xml"/><Relationship Id="rId122" Type="http://schemas.openxmlformats.org/officeDocument/2006/relationships/slideMaster" Target="slideMasters/slideMaster121.xml"/><Relationship Id="rId123" Type="http://schemas.openxmlformats.org/officeDocument/2006/relationships/slideMaster" Target="slideMasters/slideMaster122.xml"/><Relationship Id="rId124" Type="http://schemas.openxmlformats.org/officeDocument/2006/relationships/notesMaster" Target="notesMasters/notesMaster1.xml"/><Relationship Id="rId125" Type="http://schemas.openxmlformats.org/officeDocument/2006/relationships/slide" Target="slides/slide1.xml"/><Relationship Id="rId126" Type="http://schemas.openxmlformats.org/officeDocument/2006/relationships/slide" Target="slides/slide2.xml"/><Relationship Id="rId127" Type="http://schemas.openxmlformats.org/officeDocument/2006/relationships/slide" Target="slides/slide3.xml"/><Relationship Id="rId128" Type="http://schemas.openxmlformats.org/officeDocument/2006/relationships/slide" Target="slides/slide4.xml"/><Relationship Id="rId129" Type="http://schemas.openxmlformats.org/officeDocument/2006/relationships/slide" Target="slides/slide5.xml"/><Relationship Id="rId130" Type="http://schemas.openxmlformats.org/officeDocument/2006/relationships/slide" Target="slides/slide6.xml"/><Relationship Id="rId131" Type="http://schemas.openxmlformats.org/officeDocument/2006/relationships/slide" Target="slides/slide7.xml"/><Relationship Id="rId132" Type="http://schemas.openxmlformats.org/officeDocument/2006/relationships/slide" Target="slides/slide8.xml"/><Relationship Id="rId133" Type="http://schemas.openxmlformats.org/officeDocument/2006/relationships/slide" Target="slides/slide9.xml"/><Relationship Id="rId134" Type="http://schemas.openxmlformats.org/officeDocument/2006/relationships/slide" Target="slides/slide10.xml"/><Relationship Id="rId135" Type="http://schemas.openxmlformats.org/officeDocument/2006/relationships/slide" Target="slides/slide11.xml"/><Relationship Id="rId136" Type="http://schemas.openxmlformats.org/officeDocument/2006/relationships/slide" Target="slides/slide12.xml"/><Relationship Id="rId137" Type="http://schemas.openxmlformats.org/officeDocument/2006/relationships/slide" Target="slides/slide13.xml"/><Relationship Id="rId138" Type="http://schemas.openxmlformats.org/officeDocument/2006/relationships/slide" Target="slides/slide14.xml"/><Relationship Id="rId139" Type="http://schemas.openxmlformats.org/officeDocument/2006/relationships/slide" Target="slides/slide15.xml"/><Relationship Id="rId140" Type="http://schemas.openxmlformats.org/officeDocument/2006/relationships/slide" Target="slides/slide16.xml"/><Relationship Id="rId141" Type="http://schemas.openxmlformats.org/officeDocument/2006/relationships/slide" Target="slides/slide17.xml"/><Relationship Id="rId142" Type="http://schemas.openxmlformats.org/officeDocument/2006/relationships/slide" Target="slides/slide18.xml"/><Relationship Id="rId143" Type="http://schemas.openxmlformats.org/officeDocument/2006/relationships/slide" Target="slides/slide19.xml"/><Relationship Id="rId144" Type="http://schemas.openxmlformats.org/officeDocument/2006/relationships/slide" Target="slides/slide20.xml"/><Relationship Id="rId145" Type="http://schemas.openxmlformats.org/officeDocument/2006/relationships/slide" Target="slides/slide21.xml"/><Relationship Id="rId146" Type="http://schemas.openxmlformats.org/officeDocument/2006/relationships/slide" Target="slides/slide22.xml"/><Relationship Id="rId147" Type="http://schemas.openxmlformats.org/officeDocument/2006/relationships/slide" Target="slides/slide23.xml"/><Relationship Id="rId1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PlaceHolder 2"/>
          <p:cNvSpPr>
            <a:spLocks noGrp="1"/>
          </p:cNvSpPr>
          <p:nvPr>
            <p:ph type="dt" idx="3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6" name="PlaceHolder 5"/>
          <p:cNvSpPr>
            <a:spLocks noGrp="1"/>
          </p:cNvSpPr>
          <p:nvPr>
            <p:ph type="ftr" idx="3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7" name="PlaceHolder 6"/>
          <p:cNvSpPr>
            <a:spLocks noGrp="1"/>
          </p:cNvSpPr>
          <p:nvPr>
            <p:ph type="sldNum" idx="3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9D2F-1125-4E22-8512-154A4BA3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23D7-CE1B-425C-9981-245C6E3D1C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7.xml"/>
</Relationships>
</file>

<file path=ppt/slideLayouts/_rels/slideLayout1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8.xml"/>
</Relationships>
</file>

<file path=ppt/slideLayouts/_rels/slideLayout1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9.xml"/>
</Relationships>
</file>

<file path=ppt/slideLayouts/_rels/slideLayout1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0.xml"/>
</Relationships>
</file>

<file path=ppt/slideLayouts/_rels/slideLayout1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1.xml"/>
</Relationships>
</file>

<file path=ppt/slideLayouts/_rels/slideLayout1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2.xml"/>
</Relationships>
</file>

<file path=ppt/slideLayouts/_rels/slideLayout1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3.xml"/>
</Relationships>
</file>

<file path=ppt/slideLayouts/_rels/slideLayout1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4.xml"/>
</Relationships>
</file>

<file path=ppt/slideLayouts/_rels/slideLayout1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5.xml"/>
</Relationships>
</file>

<file path=ppt/slideLayouts/_rels/slideLayout1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6.xml"/>
</Relationships>
</file>

<file path=ppt/slideLayouts/_rels/slideLayout1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7.xml"/>
</Relationships>
</file>

<file path=ppt/slideLayouts/_rels/slideLayout1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8.xml"/>
</Relationships>
</file>

<file path=ppt/slideLayouts/_rels/slideLayout1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9.xml"/>
</Relationships>
</file>

<file path=ppt/slideLayouts/_rels/slideLayout1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0.xml"/>
</Relationships>
</file>

<file path=ppt/slideLayouts/_rels/slideLayout1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1.xml"/>
</Relationships>
</file>

<file path=ppt/slideLayouts/_rels/slideLayout1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2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F59-5B4C-4532-BFDE-833C97F94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E62-4EF9-4CA3-A8F0-96C34989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BE9530-63E4-4D6B-9012-E0F49BDF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BBC3A5AA-87AF-433D-B0C6-7E877E1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805AD5C-7021-4312-9390-62F0A50D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3E98DEE-7898-444B-938B-75575A7B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FF7BF4DA-9337-4DD4-BFF6-4165942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C47EC02-30D3-4342-B82C-7B3B576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07A6B0D0-03A6-4CF7-A6CD-237FD063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990F4368-0D22-485B-979E-F0A2C342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5AFA0F80-D412-4E45-9EA0-B59073EC2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860BD12-3184-420F-92F8-89F9021A4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767F19D-44AE-49F7-B8F3-23F48243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07F047-2B6E-4235-A7CF-E6AF3058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D3FCFE86-C3CD-43CF-BC00-5A05C41A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B3D4E29-1593-4A0C-9332-415CEAF5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82AB7C5-BB53-43D7-8AE1-25249E87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46E12F1B-47FB-407E-A89A-8BDA7FF8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51817B0E-493F-4799-9456-9B8B9F3C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24C1C2B-5755-4B3A-9469-3E1A880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0AD452BA-565F-49DB-BF42-79885A91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92EDD6BE-FA66-4A27-A7BF-ED3D003D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1F403614-4AA8-4048-AB3F-DD7CD86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2094C2BE-3B0A-438D-906A-5ED5507D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B4A8E3-E90E-45D6-A781-3780D81F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2"/>
          </p:nvPr>
        </p:nvSpPr>
        <p:spPr/>
        <p:txBody>
          <a:bodyPr/>
          <a:p>
            <a:fld id="{ED558DB2-D494-4C96-9D0D-96010F9E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3FC47742-E664-4619-9F8F-A4D713C2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9BEB2A6D-BD09-4673-8E49-E5BDE737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2607B187-77D2-42B4-B9A1-F766DD9C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E303191B-F3C7-4BDC-A28D-C9345E92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B81C518-86DC-41D3-AEF3-A2A37414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7FBDAB5A-A1C5-4365-ACD3-3726E385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09253E1C-5D75-47EE-9744-BF0BEEF8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D59B52E1-C8D5-4393-876C-93B104C1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2D7E87A0-7C90-418A-973D-A011EC48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F94A60-19E9-483E-A86B-2DEFD3D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CD70ABCD-2E66-4FBE-808F-B7BE2766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4B15E906-3433-4811-8EE2-572FEA44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5"/>
          </p:nvPr>
        </p:nvSpPr>
        <p:spPr/>
        <p:txBody>
          <a:bodyPr/>
          <a:p>
            <a:fld id="{A3EB303C-5D8E-4D23-84E4-0CA53107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3B10B15C-4B7E-4BB5-BB5D-04D3F2B26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CD9FFCDF-2265-4EEC-913A-FE9623FC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2195AA0-70AB-450C-92A9-8E61ADE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2A468D5-9726-417C-8FDB-F2BBA65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627E14EA-FAC6-4C7C-8CC1-4C49DBD6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3D82A70F-E20C-452A-A181-0CC3815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04AD06D1-0DB2-4388-B225-E9138B37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43E74-9E3D-40DE-896E-931901DF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A44D80AC-5313-4EB9-8040-41BFBEFB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94D28BA7-F322-4748-87F7-6AD5F11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79C7A649-E6AA-4926-B8D7-7FC00A5C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E8C0610C-D8C7-431A-A4FB-DB4F3145A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8"/>
          </p:nvPr>
        </p:nvSpPr>
        <p:spPr/>
        <p:txBody>
          <a:bodyPr/>
          <a:p>
            <a:fld id="{8B26F5DF-E036-4BDE-BF17-63CB51E0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AF8F049F-E948-402B-BAD2-8C68D95F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79729B4-AAD7-4745-8110-C34DED5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346B796-CB99-4625-914A-D33A3A0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C1C60A10-C21C-4A01-8E42-78A8CD8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19942FEA-26A8-4541-A4A3-5B364DCB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B2EC4-AF6C-45E9-8019-64EC4E9F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F2C01113-8630-4260-83CC-AB026652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030CB22-79DB-4028-8D4D-23E09FE3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D2C5EB41-682E-4C5C-AC2C-A6292A67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3D21FCAC-F3B1-4F51-8CBD-15618E21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00BDCB27-4FC7-46E2-9C2C-B37CFF85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80205649-7665-42C1-99EC-9636626F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1"/>
          </p:nvPr>
        </p:nvSpPr>
        <p:spPr/>
        <p:txBody>
          <a:bodyPr/>
          <a:p>
            <a:fld id="{692CC9F0-1641-4A76-8A5D-8D833E5B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79D69B52-2D0B-490C-98D3-6543119E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D30E647-9EAD-4B73-87BC-4722E869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ED64B4C5-4809-459D-B211-98E27A48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E038D-A4F3-4105-91E7-1410F922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4F1DDF18-80F6-4114-B4BD-3BA1C8EC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AE97067B-2341-4154-9692-D6F4E6F2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6CE93591-2F7B-42B8-A842-68B6D928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99700FF-286F-4895-8790-AEE216D6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C5317F9F-5A04-4105-A627-F897BC6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33352568-D1FA-420C-925D-CF0D1EF5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F55A554E-A00F-4B61-995C-0FF6974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B21F71B2-19E2-45C3-BB7E-71E9D294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4"/>
          </p:nvPr>
        </p:nvSpPr>
        <p:spPr/>
        <p:txBody>
          <a:bodyPr/>
          <a:p>
            <a:fld id="{8245EC5C-2790-4951-8164-3AE797BC3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96C3B-6619-4AF2-A1F6-CB805CAF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B7746-9675-4AED-B42C-51612FF9B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0A019202-3254-44FD-B352-49387E42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F7350EB-A661-4187-9E56-370763D5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6BEB708-8278-4835-A11D-2CDF18FB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B24A36BE-7A8C-453C-9B47-B628992F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AEFC210B-455F-499A-845D-57096147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E7C31136-C1CB-4FD2-87EA-79596A31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873B79AA-F8FE-4309-899D-2C72424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C1F6EF0A-6BA4-4177-A374-5999E2A0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EC74C173-A4BE-449D-9A8D-33A62E9E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05E8DF-E86A-46B7-B78A-E61B7ACB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7A011FC8-A962-4233-86AA-680CF384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116006C4-0FD2-4048-8ED9-1AA94518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7"/>
          </p:nvPr>
        </p:nvSpPr>
        <p:spPr/>
        <p:txBody>
          <a:bodyPr/>
          <a:p>
            <a:fld id="{3BC5FE3F-F830-4F79-8C40-DD0434A2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22EBB173-2935-436E-8B7D-1B207286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DDB93E91-C208-42C0-B316-74347AB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09CBDDC2-4E29-416B-B681-685A1E7D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EBB7E0E5-33BD-410E-9F3D-20728E51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6930AD19-F1B2-4389-8B52-1BC78284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054B7CE-CC24-4B44-B7BE-CF376835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DC9F1B8B-BF0F-4452-B946-6B470418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5E5-5F19-444C-8033-3237124F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707DA9-FFE6-41BF-A32A-60CC578E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4B133AE5-35DF-4AA6-B4CB-AD6E7D2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375345D-E7EE-458A-A86C-34AD94B0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141BDDA7-B4DF-4015-8C0A-1D68777BB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348C6BF9-E9B8-47DB-96C6-EB2B4227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0"/>
          </p:nvPr>
        </p:nvSpPr>
        <p:spPr/>
        <p:txBody>
          <a:bodyPr/>
          <a:p>
            <a:fld id="{8EC011D1-0717-4D52-BE7E-DE574417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B3214F9-E557-4BED-9879-6FDEA63F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518B6EF9-A64F-41D0-8FF7-06FBC69A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A05B0CC-F324-4B17-A865-188BFD0E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E6430DC-6F5A-487E-A439-C96221C8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07E19CCC-7EEF-4849-911E-5778B923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E0205-BA36-4D30-9F5D-62351048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F8B90DD-2043-4030-9E60-A9274A4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6627B4F-4028-4043-BEBD-2AD93198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4E993F46-AB81-4526-B800-C0840CE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2E78B8AE-5BF5-4252-A5B9-D829BC3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88D4EC36-E69B-4AEC-9E39-6E311BCF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D85340EE-1C5C-4A1F-B41B-EACDE1CB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3"/>
          </p:nvPr>
        </p:nvSpPr>
        <p:spPr/>
        <p:txBody>
          <a:bodyPr/>
          <a:p>
            <a:fld id="{BB78605F-F4FC-486C-9CDD-3E45851AF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D360A87F-31A7-4C90-A3CF-932C0FF4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3FCAEC36-BC80-4838-96E8-5A178FE0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B64C4622-DE93-4028-936A-5F989D38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152635-5B6D-4224-B76D-27AC92CA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6038CF39-2137-4F21-A626-6D1376E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023E2AC9-45CB-4087-9472-5ADB9D62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A0A249C-D524-4E33-84FE-CFA72D02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1E889DAC-1CEA-4D42-AD26-CE05DD88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820A69C6-A9D2-4D00-82F9-327DF884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F19B050C-E10E-4E1F-A786-D245575F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ADD62AF1-BBB6-41F7-A098-8B255903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6037DBCE-93DE-4E32-B3B5-6DA56ABC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6"/>
          </p:nvPr>
        </p:nvSpPr>
        <p:spPr/>
        <p:txBody>
          <a:bodyPr/>
          <a:p>
            <a:fld id="{B974A804-E536-4E43-ABC6-76984A62C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C28DB9B0-CB84-4FAC-AF92-B4F706962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3F193D-8FF5-4D87-AC24-C4D2AAED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B07CEB4-5530-4C62-827F-F1677D2F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0FFC54FD-B3FC-4D2A-89DB-B0E13A66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0AA5CE9C-84CD-4D48-AB02-24E8E1C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0EE17E77-E3F0-4FE4-A4A6-6D48578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3A51D3B-C022-4FA2-A9F9-518ABF9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DF39BD6B-816E-4D01-BB48-53C855B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77FE4A1F-7C48-43F0-BDAD-AC6CCD98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0558A9CD-8AF1-42D7-83D4-9F17663F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20445FFB-33BB-4BEC-9DE3-2419142C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24F7D636-BC7D-45ED-95AD-D934E014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97162-D6F9-4090-8E71-83AC821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9"/>
          </p:nvPr>
        </p:nvSpPr>
        <p:spPr/>
        <p:txBody>
          <a:bodyPr/>
          <a:p>
            <a:fld id="{8B2BB5BE-C864-4AB6-A66F-9EFAC0EA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A4A650A1-1BFA-46DA-B053-825B0F44A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F64541AD-E4D4-4DCC-9E1D-201786B7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166C6375-9E2B-4399-956B-B1D7BD63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7E36615-AB2F-43C5-91DA-C2DE5E17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70D2830-4657-48D2-B6EB-182E80AE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4EC37DA5-C638-4CE0-AB62-5303FDB0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AD853333-7EAD-4DEE-9870-2DE47E6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2064F963-2B86-4CE0-A38A-CB32E09C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9B31A262-39C0-4794-81FF-FDA4BA81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F29C3-0263-4F44-8159-885B6C0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6B5365A3-C3F8-43A5-B5A7-7480228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425F60C6-983D-4BD7-A7DB-86BEED48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2"/>
          </p:nvPr>
        </p:nvSpPr>
        <p:spPr/>
        <p:txBody>
          <a:bodyPr/>
          <a:p>
            <a:fld id="{89A3B209-C494-4E69-A59E-2CD97EF8E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BE14E654-210E-40D8-8C50-C31B19788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273085A-CD0A-446A-BE9D-850ACBB3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91D8391-BFE3-4FC9-90EF-9007DB24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155FA917-B763-44E5-930A-D832EEF3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218C8A0-6AA8-45C0-AAF1-2788C389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0F51387A-48C7-42F0-A7F5-C244861E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92925C4C-EF66-4AF1-8946-960BE4A6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F5F093-CA6D-4A28-AA4B-8908A750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65B12563-6BC2-4C18-9A6B-4282BD41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A8C38AED-2F02-4333-9017-BCD868F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6E4BC0D2-A3EB-4175-A9F7-B130D2B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232D17DF-EC92-42AD-8FB9-48235FF79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5"/>
          </p:nvPr>
        </p:nvSpPr>
        <p:spPr/>
        <p:txBody>
          <a:bodyPr/>
          <a:p>
            <a:fld id="{C3F7DA2B-76F6-46E9-8866-1378F928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1E5D795A-60A5-4563-A77D-A7E75F05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D93C59CB-ED40-4333-8CDA-F6ECEA7E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9E28EF0C-FEC6-49AB-BFA2-DEA2F9B7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57C0CB70-0D0D-4F0F-924C-226E65B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83C6EABA-C699-4D2D-9570-014C5BCE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11971-5425-4CDA-A55C-4A6AFD18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A2B45119-66D2-4446-955A-7458CA3B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81ED4D2B-DEBE-4A91-8B85-01207C48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2CBC7E85-AE0C-430D-B116-9B2C7B97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D7C8398E-5A50-4126-AC60-CD23EA5A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F1641CFB-4A96-4D47-A481-B107339F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20323D30-947C-481F-936B-802DDA7C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8"/>
          </p:nvPr>
        </p:nvSpPr>
        <p:spPr/>
        <p:txBody>
          <a:bodyPr/>
          <a:p>
            <a:fld id="{FE9586D6-F082-4E67-BC41-BCF7474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D9B5250C-B877-4011-8AC1-0C935466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43827373-B9F6-4D4D-85BA-6F2A50E4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0D76C8EA-39BB-4FCB-BAE7-B12DF1F5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035E7-E6D1-4972-974E-33AA3A37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C998D805-35AC-4D9F-A3FE-97D1D052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6C1425CB-8703-439F-B2DE-0454672E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09AAB9E9-F7DD-41A2-A55E-16E3948B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7FE26CE6-5910-4253-B089-85C2DD1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E4726572-DA1E-4338-B501-F4F27794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5A06445C-7538-49ED-9692-C9E6B379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E967B157-C1E2-4360-A713-C6A4C9F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21DC3BA2-42F4-4F0A-8075-2134ECCD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1"/>
          </p:nvPr>
        </p:nvSpPr>
        <p:spPr/>
        <p:txBody>
          <a:bodyPr/>
          <a:p>
            <a:fld id="{F14D089C-CD75-4323-A70D-6E725D559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D296A35-6705-4E7F-9DBA-F20DD2D3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11DC41-15BD-4288-B8EA-DAC7B6B0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70B4BA4D-BC24-4800-9C4A-4F379D0F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F290E56F-C718-49F6-9804-9D0093F0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2781C3FF-5A58-4FE2-935B-0DB52DB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2A78396A-7038-46DB-BFF6-88C20EC3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8719B017-A442-44B0-A426-75A00AC2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D7BE0EDC-37F1-4135-A570-9F28A30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AA28D011-08F8-443A-8A15-2A18378E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054FBD44-5EEB-4DCB-AB44-D6D6B03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27DB4891-BB10-4BB3-B1AB-48852AB0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58B2665A-3D95-4ABC-B11C-7278A8A23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CFC8-FAE8-4A19-9CBC-AF39A8EE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7B3D21-B1BD-4C1E-8EA9-DF5D9930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4"/>
          </p:nvPr>
        </p:nvSpPr>
        <p:spPr/>
        <p:txBody>
          <a:bodyPr/>
          <a:p>
            <a:fld id="{92C49287-1547-44C1-A522-5F7BE33A0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87DF56-8265-499B-A5D6-01D4898A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7A79C62A-88C1-42D1-948B-76027F5D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ACBF8723-101C-40F1-9624-04DCF5CF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F59C4E49-3DFA-4303-9D91-6CACB7C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5D088D15-2F86-43A8-8277-00CD180A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081C7F3F-478E-4EC0-BBA7-530E77F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275D23D1-AEE0-45FA-89A3-69865FF0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36A86311-2B3C-467E-B77D-32340F8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3DB814-698F-4599-BCD0-AAED000E7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629E7433-85BD-4106-8CBC-584FD22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9496B21D-C5F7-4720-B3CB-9F61FC85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E7F13BC5-4B63-4682-B425-C75EA7F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D4E03F1B-3DFA-4EB8-B77F-2F3FE638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7"/>
          </p:nvPr>
        </p:nvSpPr>
        <p:spPr/>
        <p:txBody>
          <a:bodyPr/>
          <a:p>
            <a:fld id="{C4AF68BE-3879-4445-AF66-EB9A15892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0A1D616E-58A0-4AA6-90BA-BDE1EF59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477B342-157A-4262-BA83-9F83E0C2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A153614B-B943-4F0E-9CF9-09126F28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F97BE75A-B61D-4669-A460-2EDC39DA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7A2BDE0F-9F78-4D29-9463-43AE69B3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1B4CA3-05E3-449F-9260-37660D69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6CB21DC7-13CD-4601-9509-147C689E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9DA32BA1-A012-4C2D-8693-02C669A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25DE3B10-F8FE-4B42-99CA-7345A552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1F77B255-90DB-4A22-80F0-77C811C7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8DE3E55E-D146-4A8C-81CF-1DD78AD7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8BA1D61C-A765-4364-970D-F7D94676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0"/>
          </p:nvPr>
        </p:nvSpPr>
        <p:spPr/>
        <p:txBody>
          <a:bodyPr/>
          <a:p>
            <a:fld id="{3748471F-1EE1-4C70-A54A-640758638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5E7F067-7D7D-4487-9600-A8EDCCC4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D1137C42-D1F4-4BB7-8230-6B04414E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C1DC35A-AC8C-4F21-96CB-C7E82CFE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60465-8797-469D-BDDC-276E71F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D8CB78A-4E12-4338-B881-6427821D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628E2462-6210-4F82-BD33-B8F41F70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E19A59B-9D32-4B7C-8ADC-AD0892D8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CDF97147-95C1-42D0-8C2E-560CA0A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0EA9F354-F116-45F0-927E-55AEC7D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9E935BDB-3C40-4E7F-9A6C-E1900DAB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251F67BF-B3AC-47B4-A11A-9BF009E0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7692C49B-B4E8-4E1C-A9E6-F697D4498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3"/>
          </p:nvPr>
        </p:nvSpPr>
        <p:spPr/>
        <p:txBody>
          <a:bodyPr/>
          <a:p>
            <a:fld id="{16DE7A9A-35AE-4954-B015-D23B0AA5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A5030BF-9F91-460A-B173-96C2F869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D79CC8-36F3-4E6C-BDB9-6A78E0F6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3787202-CF52-459F-A0C0-1704F22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1C459DD6-8397-40D6-AF2A-65D9052E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C15F5EEF-4CC7-4530-A0E8-D2610215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DE242558-81EF-44C2-A8F9-58FFD0B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6CF5442-11B4-4B4B-88B2-BD4F5ECF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D218881-B035-4E94-A3C9-51E8CFA3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952E790F-F6C1-42F1-B70F-1E6EB3A8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0A59F5E0-24EA-472D-A517-29CDBD83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3CC9F5D-6DDB-4003-8B57-FF494756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373A9848-FD42-4242-A17B-B1A43CCB0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6ED457-2979-476C-B3E0-B590E4F5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6"/>
          </p:nvPr>
        </p:nvSpPr>
        <p:spPr/>
        <p:txBody>
          <a:bodyPr/>
          <a:p>
            <a:fld id="{646C8DF5-9298-4867-A820-59E73F32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7012D3C-EA8F-4814-82E4-52F7D020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2203007-93C7-429F-BC13-4B0B6F1B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DA10793A-DEAC-42BD-96A0-505E9897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317FE51-2163-441D-8471-469A467D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2464C1B2-24EB-429B-A992-4476E79F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548191B-3C06-4AD0-AD4B-CF49E5E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845B3D28-FB7F-4086-B0CE-5A943DE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5D6F376-5F2D-4405-B530-7F3946E2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B69B5E0D-C709-46D2-AAF4-E7E7C718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16A2FC-EA7D-41F7-97B1-0025DC4C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1CD19B36-FDC1-4BCD-B39A-CDE7CA5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5F5F42AF-147C-470E-B173-C23416BE7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9"/>
          </p:nvPr>
        </p:nvSpPr>
        <p:spPr/>
        <p:txBody>
          <a:bodyPr/>
          <a:p>
            <a:fld id="{C0FC59B0-C1A7-4000-9EA7-4FE4651D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8CF8C0E2-D844-4655-B955-F4EFC491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1F94E7F-4ECF-477D-94B1-504C89C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11365B50-E762-4EF6-B3AE-DA0D5894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78F92B25-619F-41F6-AE58-2967A1F0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29CC9B99-23E2-4020-8A44-10480EC9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8CC4806-7EE7-4033-AC75-1820C232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87866D1F-FDEF-4BE7-A26A-E572E435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B47C5EE-1E5B-4559-87D6-D13C460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53075C2C-8908-471A-B4F3-482B49E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1E502318-C82F-405F-B603-909A837D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2023B08F-ABE6-4789-8D87-CE9FC8C4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196D7197-75A3-4515-ABF7-50EDC07A7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2"/>
          </p:nvPr>
        </p:nvSpPr>
        <p:spPr/>
        <p:txBody>
          <a:bodyPr/>
          <a:p>
            <a:fld id="{A4211E73-DF59-4426-8997-B40A854A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CEE0000-2739-4986-93C8-1C8DE0AD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9D5E2A3-8AE1-4DB0-951F-451F3916F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37669C9-BAA8-4C44-97D6-7ED51A92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CFB2A630-6D8F-43D3-AF3F-05289DCC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AC3DB386-EE38-41FA-AFF2-1A0C7A09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E6089E-37B0-4973-9FE6-705B735B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96AD672C-FE12-4241-ABA8-D98A9C19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E026DDB9-BBEF-4268-AE4E-A09D832D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429ABBF3-9406-47F0-81FF-C5CD232F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6E7FE3B-DBC6-45C9-91E4-BAF98C1B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BB1069A5-395B-41C0-BA64-6B80001D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A9305C39-5596-4662-B72D-0DA3925B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5"/>
          </p:nvPr>
        </p:nvSpPr>
        <p:spPr/>
        <p:txBody>
          <a:bodyPr/>
          <a:p>
            <a:fld id="{96484AA1-57B4-453E-BB29-946FC5FF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10E878D4-9985-4990-8514-F5AB25C1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3D967E26-3308-4785-8BA2-3F4E5424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92DBF3DF-9F4E-4B23-A797-C6F5843D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01DA-5FA4-4C62-A476-34783D71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DAC636-51CA-4AFB-AF10-0ADA8EC8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67A350A7-DC58-4282-98C0-B8C0DEE3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25E20FEE-5E9E-4A9F-9C18-6FD1957E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CC05CAA4-6F55-4B7B-AA3E-9323BCA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56AD2A2F-46DE-466A-A162-38FEBEFB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7CFF9456-2148-4E0C-A19C-CF97D2F2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99FE019A-B564-48CA-A97B-53BC99E6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BA574596-6618-4B90-A978-603E9C2B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BE8F0E88-ED3D-44CD-9AB3-4FBCFACA1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8"/>
          </p:nvPr>
        </p:nvSpPr>
        <p:spPr/>
        <p:txBody>
          <a:bodyPr/>
          <a:p>
            <a:fld id="{120ECD61-1B90-4863-84CD-12F20214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56A06D81-BE06-4979-B63D-47D0117D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37BD9B-17CA-45B6-9E41-A689324D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95489F18-9FD6-4198-A17F-6CFD6B30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41E384DF-936A-4B62-B49C-721055DA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2321B771-C81F-4E2B-B620-7DD46936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4DA71EFC-361D-477B-84D8-E221C0F6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D057DFD9-242B-4726-99D8-2C8EBC71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8CFFEDDA-7131-4909-8CFA-6B2CCB91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F79915A0-953D-4C20-A85C-02391713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BADAF8BC-54AF-468E-A83A-A36A75DF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9705AA09-C4E9-46D4-B14A-8AE3257D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E9122330-EDFD-425C-B40E-9DEE4B77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65A230-848B-43EA-B318-C333C4B0A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1"/>
          </p:nvPr>
        </p:nvSpPr>
        <p:spPr/>
        <p:txBody>
          <a:bodyPr/>
          <a:p>
            <a:fld id="{1AAFDCC1-E125-43D6-B2DE-FAD6CF2E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08050D34-E491-43C5-A357-32D9A7AF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FCF4462B-67D9-4131-9B26-261C1C52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93982FF7-A5C2-4707-9370-BEDB2784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0E396252-D4A4-4976-A2D8-ABB764CE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89D9E4DB-29F4-4D14-A6BA-E4743341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6925D91D-9FE9-442F-BC3C-E2201C76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90816742-4D66-45B5-B52F-E9D6718D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F2667D8A-4483-40C3-913D-627149FD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37A8B0CF-BB9D-4D21-82CD-465B4E72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A3BC05CB-2444-43CF-9FE1-1D4F5300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9C90A04C-11D4-4811-8B8C-67B6A140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4"/>
          </p:nvPr>
        </p:nvSpPr>
        <p:spPr/>
        <p:txBody>
          <a:bodyPr/>
          <a:p>
            <a:fld id="{BB8DD90B-6229-4E11-AA95-5E3B307F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8590F30A-3F24-494D-B678-4B21B458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C3A33519-D2AD-4F71-9ACD-87342582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0228FCF1-9921-4C3B-BC68-93915AC7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F48D52E-703B-44C0-B1EF-41ED722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0ACD4E20-C5CA-4C81-8FBE-9A6740E1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2A57440A-C319-468B-A06E-E8DB5E79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2CE97EF6-B053-4018-9FF5-7DC5045F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5384FDD-9D14-4F28-8C82-97152ED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427F0A1A-C6E5-4161-91EE-CE14AAF5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101DBBFE-869E-43FF-ADA4-454D8D02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BB1558DE-0BA3-4CF1-8329-956BFB3D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7"/>
          </p:nvPr>
        </p:nvSpPr>
        <p:spPr/>
        <p:txBody>
          <a:bodyPr/>
          <a:p>
            <a:fld id="{1E3B45CF-9939-42C7-BED5-A9E7A1E3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2534ED17-C098-4318-9B3E-9FD23132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23352394-95CF-431C-9734-D724C07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9823AC72-93DF-4358-B4BD-F51489D8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70CE991C-8121-4BE1-9CBE-491DC8F7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F1E6CB71-FCF7-4901-9531-C7BD14C5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B84E885E-B0B2-4D94-A965-7EFDB21C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AC2658E9-ECD3-480F-A47E-C71A2756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2CB6A42F-9BC7-41D7-A8BE-12F2493B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DDDF1CFC-BDDE-45F6-BF33-418DD5C4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7AAE69C2-C24E-43E9-BA34-53366EAA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3975B51E-59E9-4B24-801F-F415AFAF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0"/>
          </p:nvPr>
        </p:nvSpPr>
        <p:spPr/>
        <p:txBody>
          <a:bodyPr/>
          <a:p>
            <a:fld id="{C4FA0F97-1878-42B1-9D9E-FC62CFBB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9ED5D6F1-05BF-4238-BA79-6DF5C823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B1F023C-0466-4946-84A9-F9647CA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C4E7210C-A7A3-46A1-99A2-1F0B007F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D833AF55-7703-44E6-8794-49FFDF45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EA24C005-B074-42E8-922A-5A679F13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109F7F4B-280F-4FAB-A693-95A74EDC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E8164B54-6F93-4741-9752-83C01B8F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A8ED56A4-C919-4714-A759-A61C4558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B67A40B1-EA42-4526-8664-D35EB07A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7B1A9BE4-4B7D-4F9E-93A9-C4648070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08E96C8D-F4B6-4BE8-B599-D943429F7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3"/>
          </p:nvPr>
        </p:nvSpPr>
        <p:spPr/>
        <p:txBody>
          <a:bodyPr/>
          <a:p>
            <a:fld id="{23A416BC-367E-45A1-8BDE-2A38C28B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87B8D158-72E0-4578-BFB6-DBD4E44B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2330FEB4-DF58-47E0-82C9-03995EDBE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3F7F832C-4D6C-4960-ACD3-640812D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FB19CFD4-BEC4-4921-921D-EDA80CB4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F69C6B2-C476-4313-B03E-9D862899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3CCE413A-4D65-4C03-82DB-5AEA810C3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32A6D816-7FE2-4EC8-AA4D-C227340B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5103B725-0F34-4B96-AF51-9E4EFCA3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DB00826-34BA-4E86-9DC9-35692739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A82A0F4D-2237-4E86-BFFE-733D9B33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CAA38313-77C3-4B32-B367-B748CA06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6"/>
          </p:nvPr>
        </p:nvSpPr>
        <p:spPr/>
        <p:txBody>
          <a:bodyPr/>
          <a:p>
            <a:fld id="{B648D362-970E-4B12-AFB8-A9A9DFC8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690C3654-CC0E-4DD4-9CBC-8F28D0D7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7E3FA378-C8C1-4770-9764-501495B1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DC87A16E-B92A-467D-B65F-88AD7BDB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11F757CC-BB0C-4DB4-8B37-62B24DF8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204A6764-6851-4473-9B31-1306C2D2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4AE80742-FC21-4E25-8E06-5DB96B82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A898F94F-488E-440B-89EC-061F0C32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A12A-3F46-4A3F-AEA6-B38ECF39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3073747C-9F8B-4670-9875-C0A23AB8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F03AF3F5-07DC-49D8-837A-B401A27E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E44885C2-CC87-4E0A-B260-9C0B0896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4BF57EFC-A2C9-4FDA-8107-10B984C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9"/>
          </p:nvPr>
        </p:nvSpPr>
        <p:spPr/>
        <p:txBody>
          <a:bodyPr/>
          <a:p>
            <a:fld id="{1C5B3CBA-C726-4A36-81F6-E048D732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9165BAB0-DE62-4157-AC1D-48136A94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E023B191-7EC6-4C4F-953C-C044B0D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C7AF5396-EDCC-4B94-90D8-CF2A0E37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D09D086A-CFDC-433C-A497-692568A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7A09EAEC-D942-4863-85FF-C2F3869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1359FFC9-EE4B-48FE-A307-B45C6CC0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58F427FD-006B-4D35-BF3A-8E96F160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D4B5DC95-81B5-4DB5-9279-4C3061C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5FDF4F86-D120-45F3-8CB7-C563F846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72F21D0E-8164-495B-89D2-D3ECF087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38EE495E-BBD5-4319-9B81-C289C7E7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2"/>
          </p:nvPr>
        </p:nvSpPr>
        <p:spPr/>
        <p:txBody>
          <a:bodyPr/>
          <a:p>
            <a:fld id="{D6AE6802-8400-482C-AC0B-A3160FE5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28A70EBE-CBCC-4B48-8FF0-84133FC7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32B022FC-A508-4C98-B404-8E8927C5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B4A95159-FBBC-4CDB-91B8-7E4269FD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F61EF69C-3387-49C8-8B1B-AED2B9EC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B78164C1-4F16-4ECF-9CBA-8EA2A95F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4A63B25B-16F2-45AF-8578-7187A41E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DE815F3F-E2E8-4C3F-B980-45E954B8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ECB51617-02FA-4D2B-B95C-991096DB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875EB2B7-ECF6-4EFB-81E7-8467CCF2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0E1CD583-AA90-49D2-8375-F72502E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2F98F65E-2C41-4567-A981-AF324CC8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5"/>
          </p:nvPr>
        </p:nvSpPr>
        <p:spPr/>
        <p:txBody>
          <a:bodyPr/>
          <a:p>
            <a:fld id="{1ED1CE45-4012-4F58-9807-0E3D6BA4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4EE87CB7-058D-4332-846B-0D77BF3B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90004F9E-0450-495C-BF90-73A54B93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0D836F81-1601-4C10-8506-BFCD3E9B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6C678403-C410-4C91-8AFD-697FD3CA4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59212DE4-F02F-4CA6-9BD0-F26B3A7E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FF1A24C6-998B-473E-AD94-75A63430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21F33ACE-2AB5-4685-979B-67B1A8BC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689E95AD-B528-485E-BC88-7312174A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14F17E63-A161-4BA3-8F28-EC54E11B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44C76979-8F1D-408B-92C0-82903464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5275772B-2B9C-4A69-92F7-A2F42374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8"/>
          </p:nvPr>
        </p:nvSpPr>
        <p:spPr/>
        <p:txBody>
          <a:bodyPr/>
          <a:p>
            <a:fld id="{2AEE4F2E-1C2A-492D-97D7-F7D4AE87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95B8B8FC-9E4C-49EA-BC79-CC8EF1FF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DD9F6E15-DBCA-4368-AE4B-8F959CD6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C367D8EC-CA83-46DF-88A0-63F615EA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7B6AAB99-5CD3-4CB6-A0E8-9241B7B6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A5E1499D-09D2-45F6-B2BB-AE2C95F8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A52873F6-A8D7-4952-BFE5-EDA60D93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E92737DA-CB05-4E1F-BBD9-99B4B0CF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2ECB09E3-D2C2-4106-969E-21486A1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5CEAFD4E-E9EE-4794-80CC-A3DB6383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A9ADE3-317D-43EB-B5F2-0D8AA1CC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36E83F1E-2BA7-40EE-8A81-C9C9C516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840E684A-73B2-4EE9-B90B-878AE0DB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1"/>
          </p:nvPr>
        </p:nvSpPr>
        <p:spPr/>
        <p:txBody>
          <a:bodyPr/>
          <a:p>
            <a:fld id="{DBE81FB6-C210-45A3-88A8-7DD349023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B65928F6-DCE4-489B-AC82-C6B1E0D5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8C18B3D2-9844-446E-A9FE-D57D4939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0E53F0F4-9361-426A-AA61-FCD77E5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CA393F57-9FD0-456A-8383-C2556377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7C4F704C-8A21-4155-A52B-E7BE326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0E69BABB-CC28-4908-BDB4-63946E74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D9579CA5-4D90-443E-B5A4-791DF522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DBD83-5E6A-435A-AD13-A1907964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445E68B8-62F9-4E35-859E-D79C1F67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617C3559-8911-4002-8683-0C839D6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6D4EB343-F6B3-4A86-AA88-D66B4F48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901C37E6-54BC-4D04-AC76-28FA9B13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4"/>
          </p:nvPr>
        </p:nvSpPr>
        <p:spPr/>
        <p:txBody>
          <a:bodyPr/>
          <a:p>
            <a:fld id="{9FB872F7-59CD-4AAF-A745-8576F32B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F0653C-FC1E-4456-9E1B-61F3B54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F9E3F-9EAA-4C8A-82B9-BA92B92B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7A326-1143-45D2-8A5F-8729BF70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AD9F-D2A2-4646-9EB6-21374449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A8E67D-F148-4F69-86A0-44AFCC2D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29CD6-7BF4-45A3-82EE-19F634A7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DF4968-8F19-456E-A229-EC32FC6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57D3D6-651E-49FC-816F-89784FF7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F32ED-B3DE-47F3-AA1B-BF6B0ABD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EDBDF-620F-403F-AA41-DC4D3372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DD524C-ED8E-4433-8669-A3854FA53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776594D-14A1-4D21-99CE-93E300AC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1739E9-E1E0-4501-B285-08865913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607B08-DDF9-4640-A5C8-380DCE8F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6356-FB8F-41C2-97D5-76C88A3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9B327D-E08C-406A-BCF5-AEC3C512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6CE56A-57B9-4ACA-B9C6-EB7F66DF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500C16E-D242-448D-BBA7-9A3212A9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DEFDC9-0B48-4BA8-B8C6-7B522FD4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990DE8-6A6C-4928-9902-BBAED75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E38028-EF19-4C79-B222-11060858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4A9760-2E64-4F17-85FB-E2D95ED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65E9BA6-1C26-4A33-BBEC-53D987E5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75B7DB3-D565-401C-86D7-D9E36659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739DF5-16A3-4BDB-AA6E-392717D8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822B-888D-4802-BBCF-7BC7B3FE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C72DF2-8764-4FE7-BF62-9D0BD81D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58A61E-C610-45A8-A4AB-5891E36B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B3BEC05-2A89-494F-87D2-23B2BBA8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E2EDB00-20E3-492D-AE9B-83D14952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7977AD-113A-4B75-A294-55862068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40284E-66E4-49BB-AEDE-83D32606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9A34AE1-64DD-45AB-A475-66116CE9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AAE2BE-AFB2-4EDB-AAF7-7B3AF6C8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94F313B-5EC3-43A8-8A00-B8678609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17B9A6-4EBA-48DD-9C7C-6409E430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33A0-AF92-41FA-8C57-192D560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363A97-332A-447A-9013-51EC2837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A579DF9-935C-4D89-91FB-0CE87A3D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1490A4-6650-47AE-AD51-7A43D60E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D33D594-0D4E-46CE-8FAC-49AA0D0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67FC8E8-A8D9-49D4-B66B-A29CE8D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5814A16-0715-4776-A154-6CE38D64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961FA4-5C0D-4E5D-9DAB-A6C32851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D2B5DBE-D866-42FF-9550-A85EC13D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0EF61A3-96A6-42E9-88DC-DEF128E01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FEAA0E1-A13C-4AF5-8558-ABEC8270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00F-E178-4DF8-9F49-D590C3E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A65C3F-B771-4D23-B746-35BBD40D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342ECE-D589-4AB6-A2C1-B7A9C7FC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0054F0-BFBE-438B-89D7-FA1B56909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AE617E6-3105-4DC6-BBED-69D3D083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01ACF56-2871-4D40-B498-F6D56A59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F37C6ED-10E8-4755-9F61-D130DABF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A76552-4288-41A0-9DC7-368DE065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D657854-A83D-47EE-903F-C8CD24B5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7541AF9-57C4-449C-A9DF-FE231AEE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0E97CCF-0097-4B68-8904-1CB880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8759-5221-4FB7-B672-FD386A5F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9906-DAAF-4415-9FD6-62BD438B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F052279-B26C-4D7C-B4E0-475EA312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1BB4B35-9F6E-4E3E-A44F-CDC8651E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CC22F1-3A1C-4250-A488-4121E190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D952473-E029-449A-9AF0-5458B532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36418F3-2306-4BBE-B592-6A01D7EF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A5359C-CC25-4DBD-AC09-74DCE251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18C9240-FF18-408D-9BBA-EB3F9184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1144EE-C4E6-430C-AB88-3F0DEB31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415C86-ADD2-475E-86F5-D58E39F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E19D638-8B61-408C-97A7-2A42DDEF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6AEC-6463-4CBC-A8AD-C7B457BA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56A1867-6116-41A9-BF8D-15862AB5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4B971EB-709C-4192-86CC-47E79302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D167F20-3598-489F-85EC-85E1E0B2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A719B9-98E8-4E61-9E4D-D48440BC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E48DD4C-0ECD-4532-AF2C-889B063E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77E2F70-59EA-4F88-A109-AC5AD870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AE215D6-D2B0-462F-A403-517561E48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660E3F3-E82E-4288-A5C3-D1E38A0C1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6A0B8CA-4973-4462-9658-2AD422272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805C803-9DFF-455C-BCF4-976B71A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A5B5-0A11-4FCF-9F7E-1D127DFF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A083ECC-950A-4827-AC0F-32A2F6D1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7894F87-9F2A-4144-B7EE-9BAE39BD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E21AC4-99B8-4F19-ADE8-DF3E76E5E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FEDC25-E16F-457A-A0DF-2F73C53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13DEAB8-4ABA-491D-AC81-3132C00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049729-F093-4879-BEAC-A05B3F74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5FAB3C9-D093-46A0-AE08-9F1007A2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568F2F9-1A98-4149-882E-3C597937A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91EA98B-F12D-4AC7-BF04-26F4688A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600E441-FB80-4E49-AB53-8B8841DF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5EA8-A4A5-432A-A38F-7843D326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D2BB8EA-1696-4FCD-9B70-D6222FA7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43F4772-BD39-437F-8ECD-DDA9C007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E6809CE-A10B-4CB6-8F98-BB0AE7F4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6C46D63-E08F-46AA-A4A5-6FED8004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CA3431-CA05-4EA1-AEE3-C019CED1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F163260-B312-4FC8-A098-139E5A33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05C58EF-D5E0-487C-A79E-BBA9E89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B00D3E-44B8-43E2-90AC-C4DAE41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7D9F0DB-9B48-4ABB-B02E-BCF89D45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48F260D-F84C-4D03-8DD1-B4349DAB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A965-3784-497A-8DC5-6C25CB5AE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FBF369-6245-435D-A38C-4B1E5806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7922D0-B7F6-4FF0-BD53-6912AF6F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240CE9A-51BC-449A-9D30-148DF459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358D18-7EC0-403C-8A2B-121513E1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490DCCD-EA48-429E-BEE6-94EF1AFF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2CA944F-1EEA-40FA-A66C-81D38CD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D4C4FE6-BE87-4836-B58C-9B73C2DC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30D0770-17DB-4696-88C3-854F8331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0ADD72-877A-40F8-AA7D-C25E4792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DF5B3C2-8B2E-4BBC-9DAC-B1946D0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B183FF4-719C-4AE9-B845-174866B5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53EDB8-6BA0-494F-9D1E-B8C70CA64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A0C43D-4905-4751-ACCA-69CE9944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19589F8-16F1-4C28-9469-6F0B3522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44ADD0B-69DB-4CDC-8F31-CC6CCA3D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12DFA51-802F-48B5-A5FC-57683C6C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FFF0A50-10CD-4E99-9419-2EBBD720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A89298-17BE-4E9D-A0F0-96144029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3FB67EE-3D77-4A2B-A286-537E7B07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DE3834F-C632-4FD9-8752-F9AA5189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DB0D708-5914-403D-88FF-C2CFB29B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1C67E1D-2B89-4360-A289-F8762726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9CF385E-128E-4B95-B21E-2382F8EE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FB72739-3567-4940-8D88-49350974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DB458D3-AF90-4432-8A7E-B6563677A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6308-B005-46BD-B218-3E4F5D55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8A7D11-3ADE-4CD6-9CB0-7EF449C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1E1FD6-3D24-4DED-A0A6-75EA5788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756FF-884E-45FF-B1FE-B28A0F65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472-AB12-47E9-AC9A-6F0822EC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B7828-007F-4F0D-92F2-5D4BB37E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A47F0B0-7641-4CFE-B72A-7E9879F2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3F12B-CC04-4A56-8C7C-217B8896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40ED11CD-4C8C-4A06-BDE9-A7AC60DD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D83AD72-EDD6-4DED-94A7-3676014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D4FD129-C21D-426E-9851-756485B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C3B4E327-404D-44B9-B494-51DB6ED4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94843C-D12E-4469-853A-7D8BA15F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15770B3-B0A3-40FF-8372-E3DC8AEA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8C95BFB-FDB7-4D75-8111-677E7F9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9C36F11-91EE-44EA-9D8F-AD213310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B649077-9DF0-4AB8-806E-8D2E19B0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48F83AE-0A8C-4CBE-8B35-636FCFDA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68E777-8E27-4E59-9C4A-B801393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7F93439-FEDF-4D72-9E6D-80B73344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F9DCE47-8657-422B-A156-3C0B7F57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1D4A9B3-7E92-4DAC-A63A-E96AC8A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25FBF32-5868-4954-A1D9-9BBD00C3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78D82F-6FFA-4C48-BB66-DAFA369A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BF5497E-58AF-43B0-B899-F146D1DD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252191B-1A96-4AB6-9D58-0B77E11B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3F6F34B-2C7C-4A78-8D53-4B2ECCF8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E1028D3-0A99-448D-B9D2-A4EC4C1D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6BAB889-BEA2-4082-9137-35F828C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4B99E-6952-4585-8741-B94EFDD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D11AEF4-109F-43FE-BD4D-356587C3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DBED1CE-34EE-45E9-8206-64C5743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C77B57B-4914-472B-A28B-654AEA35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2541FBF-DCC9-42EC-9B65-AB5C24E5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B79B4EB-2385-4AA4-A7B5-18F65AEF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65E6C0B5-5CC6-4F4D-B77D-367D576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4C3AF61-C29D-43A3-A9C6-65D63F57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8202AE0-5D12-4BFC-BBD5-C7EE09F8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D8BF53-D479-48F3-9226-E31FEEFB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188115A-856D-46D5-8C6A-818EB8D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1E0C5-F53C-4DBD-BA9B-80AE433B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37FB685-AEA1-4D55-9FC4-480A5C74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0B252CB-5348-470B-ADC2-EC799C1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E6D9E4A7-9FDC-4047-9BE0-2E727F63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BD54135F-02B7-49C6-953F-5AFC711B2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7EECD67-9C75-43AB-A126-5405D8F3D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5A69275-6C75-4FFC-9171-81AE7869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D6D10A3-523A-4D6A-AEFD-AA82CB21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46D3A3B4-BDC5-41E4-A92D-337E8773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261A6984-F1E1-4938-A951-A42D27ED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92558BE-D17C-4177-940F-842EDFFE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B49711-D751-4D60-986D-D728109F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C7B897-BDE6-44CB-B988-ADB28700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0F92C1B2-A54F-4ABC-807B-2A17EDCF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801982D6-6D58-4A76-8BEC-ACB72FC8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DEBB02F-BE81-451E-B76E-85AC9DB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66CDABCD-D7A5-4A1D-9E25-DC4620BA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7031EF3-0EDD-4FF0-B532-65851D929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F19CD056-1A8C-48FF-BE42-6E784E1D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046EF65-C409-474E-A5C6-F193C3A3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027C87C-A385-4AB3-A68C-C8D943A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B3D2140A-A5E1-4780-BF38-7CFB0C63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0D9FA1-4E40-43FD-8CE1-1919FCC2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5FCEDA9-B037-4D74-A7F1-11380B65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A1C34BF-AD9D-4F86-8311-CE4EC980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7E119C4-A8DC-4DBA-AA0C-A2C280AD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A70E193-BD63-4FE8-A346-4FDB5481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91AF15F-91A5-4AA4-9CA0-D4091812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A4547B0-7A58-473F-8AAE-E674A7CB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8BDEF47-1DE8-48C9-BD09-F47736A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3A05E88-8D34-46CE-BA5E-6EFD1E147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2157E8C-6F97-4769-8F66-923F2DDF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D24C9072-D4E4-4551-AF4A-51D6586E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76CD8-C097-4DDF-9220-62F5A76B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81167CA1-57C9-4AE5-885B-3BFC3BDC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44C567C9-9A3F-43E2-9424-A8217D3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E19B41C-7A11-4393-909A-3629E5E1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9D74483-AB45-4931-A466-F65539D0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12F35F3-DC4A-4BC2-B643-55556FC9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5C29F609-288E-40E6-B718-6D4B431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DF87FBC-AFC5-4D30-BDB9-1F7AF049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02AC01CA-53A8-4112-A8D8-B56DCD2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753D4CB7-9246-4D30-8F5A-53F0F5F4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BFC336F6-EEF5-44FE-9570-F3A7EE57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D3F308-424F-4F32-9A4E-304FCCA7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9"/>
          </p:nvPr>
        </p:nvSpPr>
        <p:spPr/>
        <p:txBody>
          <a:bodyPr/>
          <a:p>
            <a:fld id="{24DF998D-4013-4FF3-B4DD-79DA7377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65FC278-E952-41AA-9445-A3552D73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2CF55F3-EDEA-48F2-A0D0-A6A87787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E136173A-CA45-4E68-AFE7-24960A2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FA447D1-A46C-4086-ACD9-EF8DDF89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5DEE21F6-CE7A-45DB-A228-206F993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46456DE-2BCF-44A8-8D7F-E0D3379C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0B70B80-B7AF-4BFC-A22E-AFCF7B7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618ED55-F76A-45E7-AB04-00B9A4E4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8558979-F27F-4902-A91C-12008A99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8F54D5-2471-4C2D-B02B-4E49AC39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B2D467C-9BE9-4EC2-9D83-5C6389BD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411D9113-C8D1-4FF3-9478-E3F202DB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12756B-5A54-42DB-A9B8-00A4AB01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8D16089-BE15-4FC4-9E96-E3E986793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ED59F3E-74D3-41C0-9B5C-0AFBB28E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E7A3E24-23A8-4C63-9AEB-9D76A364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378F714-07E4-441D-8BE7-85039C46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2A9B9A9-2641-463E-A86B-995C2915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D9EED57-7FA7-498F-9752-34A05F0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C9F090A-D62D-49E1-8315-317BB9C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BDAD-2F00-4B21-B206-1731F590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E0334C-AF58-4EC3-BB44-BAAA148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D5DD658-A368-4999-8D77-DAFAE7DA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BB68CF2A-BAC3-4E0D-AEC8-6FA82AE1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66604023-4DEC-4E6A-8714-AC575FBA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4B4DB727-D0C3-4BD2-A7D9-0C83358B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0AC0240-0E4E-492A-B739-54007985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C727370-EDEB-47E4-BC60-AF189268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7847EC0-AF28-41D9-B1B4-376A9C4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956B17F-0C94-49B8-B410-5EC1F4E0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E3D3739-44B6-4E86-80E4-450FEA6E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95253A2-043A-4B9B-B052-9BD2B05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43BE34-5B65-475B-A7D9-7C8C98FC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E7AD7DE-7C71-4FB0-B24F-99F92E36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87286642-9836-4B67-B541-7EFC8EC9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A86195C-F5F6-40E0-AE67-8C5E7369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175BE41-0D8F-4C85-B17E-C925555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79ED9504-F99F-45AC-B6F2-01D84C5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10A64A1-D5D3-4CBC-804D-D0910A43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A3DA9EC-D98B-4048-96B3-36E111C8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762E9C61-0D0B-4368-9ECB-06036D27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7586132-E727-4B45-9EB3-8EFC2C18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1931BFDC-7E0A-43AB-844E-2EF2FC86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5A8494-9C1A-414E-B810-C2BD9788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457C9A9-6162-4FB9-B190-CDEF08F5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F34A43D1-6759-4CA4-9E02-0EFDAE8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5A15F7C1-D829-494A-B3E2-869AAE78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9D1197B8-6F75-492E-AA55-A7BC7B63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AA9DDC9B-4688-4DD2-BBFA-44AA09E0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37778292-28F4-4EDD-99EA-5D5AE98D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C2F8FDEB-B39C-4E3D-9542-AB5A6F0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E1C50778-AB28-48A6-866F-F82C4934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1"/>
          </p:nvPr>
        </p:nvSpPr>
        <p:spPr/>
        <p:txBody>
          <a:bodyPr/>
          <a:p>
            <a:fld id="{065C6226-A23D-49CA-B89C-ADCB40BB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EFF6253-7961-4C03-996F-A423A010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98D200-5CDF-42DF-AAAA-90645107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A204BC0C-8C10-4AA4-B303-26C8E701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0CBAD14-1F00-424A-AD40-63D4E14E6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B3ADFA9-18B8-4708-9761-323A6A36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CF157BB-F349-490E-80E1-79EF54AB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BDDB455-6EBC-4A29-A07C-9973A992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CB98B77F-44EF-42BE-85D3-4C2336C1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11D7525-F839-49E9-8B4F-E711FFA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FE78DD5-B56F-44FA-895C-E6F13488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7E5F7FE-E62E-42D3-8205-20B70599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6F92E8F-0BBD-4BD1-8C9C-B2185DFD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2A7CAA-05BB-428A-A672-8B0DD813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EF2E79-619D-4B0D-8E5F-F1BE35D7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AD76A-DE9F-43D8-AC63-9C9A6B7A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CD4B417F-0249-4807-9FFB-264E6E17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F135D2A0-F88F-4273-88E3-37D09673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88D6C31-D68A-4959-B889-92B93D476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18F33C0-41AA-4871-AEEE-7B21C42A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2591A24D-74BE-4A57-B91A-EE3B6EA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E0F44D57-31E1-434D-BC84-F65CDCE0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988B52B-0A3B-4B6C-9776-24627DD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1E1CE-8766-4BB9-B28E-C6155088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D09FBB47-5AE2-4E0D-8E29-85389CEC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49D3A1ED-EE1E-4F5E-AF99-608FF188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11C14191-1594-4656-9022-0805A1F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7AF6EA89-9F26-471D-AAE8-5B70F562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7"/>
          </p:nvPr>
        </p:nvSpPr>
        <p:spPr/>
        <p:txBody>
          <a:bodyPr/>
          <a:p>
            <a:fld id="{646A7D1C-A651-453C-8C30-ACD73201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4EF7AF9-FDCF-4EF9-AACB-DF92C2EFF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B42F928-7DC7-42B7-B946-C3C92517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966946C-91CE-48B6-A22C-DFDFA483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AA3DF71-270C-482E-8A0E-45DD0822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08A0A39-3A0C-41A9-84E4-28DB6B7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0100EC-F410-46AE-AF99-DFEF0C2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564B129-385B-4B70-B3ED-B754161D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6812158-77CD-4D5A-9E5F-A01179DF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200FAD6C-6000-453D-B77D-12DBE92A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4C77C61D-5F4D-43E2-8516-4D1DB3C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E4F7E867-5195-4F3A-881E-18EBD2E6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F272A47D-ACE4-42E8-A173-78353C7C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94E16700-C601-4115-B36A-AC27ACD7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7523A8C-33D4-4B5B-B4DE-901F3913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FB77DBA-B6A1-43A7-9EE2-66031D34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64043DBA-F09A-43B3-9644-8052E956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996E65-3E92-46B5-9CEC-0549C442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D45B6A1-D7B9-4C4D-A4EA-1BAA1D90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D03D9DC5-5500-4CAC-8CFE-C4AD4D1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BE9B553-4653-406F-9E1B-AC27A28E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BC80619-9A7C-412D-9E0F-EC11C06D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1780FDE4-BBDF-4E47-841A-B4D2B979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A50848D0-945B-486F-B4A4-EC158E25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5B73E5F-6BEF-47C8-99E0-7D41129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F7590808-C17B-47C3-8ACC-56920346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EA1330B-E966-4D3D-92F8-76719D63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C0C71C9-A061-4AAC-9D7E-AB0C7A08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8B45EF-19EB-4DB1-910B-8E7F03E3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6559BF8B-4142-4E88-B947-B0E691AB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8AF5E89-BC52-4643-A077-562CB2C9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C6AB323-C4CC-492E-B99E-E7B1CC4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B2250B9A-AD68-43DD-9D18-8E0EAA2B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C1E4598-B6A3-4C43-9B77-E5A666F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2D218155-E229-41C5-A782-30E06815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32304468-0D03-4358-BE21-6B46C693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9C9CA442-1884-4B23-ACDD-0E7331C2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8CE7AC28-2996-4ADC-8B26-1D41D391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EB3F35DB-FA57-4782-90FA-60D4FA25D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E62-72D8-41D4-925B-7EB963E9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2A4531-C9B4-48C5-A477-D55720E7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6"/>
          </p:nvPr>
        </p:nvSpPr>
        <p:spPr/>
        <p:txBody>
          <a:bodyPr/>
          <a:p>
            <a:fld id="{A7C56258-2272-4FE0-BC2A-82B6F991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C578040-7AC8-4DD1-A4D2-DE7440E7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4DB2D16-F46F-4425-AB47-DBD58938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857B0E0-77F2-4864-926B-F69C28C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AE3D8EB7-0D1A-4CE0-BDDC-363E8872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5E16BAA-5345-4A7E-8A3D-79E17CAA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8F6E1829-708E-475D-81B8-47E055BD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669426D1-0BD0-454B-923C-1A5EE45D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C95F52DE-F658-429A-80A8-2010FDA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D6356CA1-5F7F-4484-BDA6-9B97915A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978546-4455-4A75-8725-68FC521B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EA4D724B-DED6-4847-B984-DAC6F1BB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4B9265D8-FD3B-4609-BAE9-AF72D68C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9"/>
          </p:nvPr>
        </p:nvSpPr>
        <p:spPr/>
        <p:txBody>
          <a:bodyPr/>
          <a:p>
            <a:fld id="{5CE4AF52-92B3-4EEF-93F9-51BD1925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2CC80A7-F719-42DA-A345-2F7F8BA3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9C4927E-E04C-474D-8F84-69E736D3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B83BDDAE-FA12-4D96-84DB-46F644D8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98D4373F-5228-4156-A058-51A5CAB58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220748B-FE9E-4890-8F5F-F12B75E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4C962D7-16FB-4A96-98D7-6CE7165A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6F0C9073-2719-4BC9-AC76-C2F0BE83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E927A-BCD6-4F07-9381-43CA2C3D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35460BAD-FE71-47E9-A46E-D03318A6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AD6AC964-C3E6-4417-A510-9BC5A579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4AC0C5B-813A-4CDF-97F5-805219FA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F6E0CED0-1B73-43C9-81BA-A130FF47A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2"/>
          </p:nvPr>
        </p:nvSpPr>
        <p:spPr/>
        <p:txBody>
          <a:bodyPr/>
          <a:p>
            <a:fld id="{8D037C26-79C1-41FA-9F74-CFF62B60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5E54330-14B2-47B7-93E5-E3ADA52DC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DE4F269-603D-4976-B416-A259C8DB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208C775-6402-4665-9D54-0DEA5A7C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7E89626-CD91-4A2A-9D60-A521B4B6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0FBE1144-CE01-47C3-AABE-180C20FC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694D1-D9CF-4303-94BB-331AF5CA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F1CF5C70-C458-4DCF-8769-83511A6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4A98E425-0F7F-48FB-B381-EF5D868C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E6F0F16-9E10-4C1B-8CB7-0BDC823A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D1DAA96F-8122-4FF5-A079-AAC3217A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54090C59-F6CE-4605-AF14-E7248D54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C69A657-D39A-4013-8AB4-37A80E06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5"/>
          </p:nvPr>
        </p:nvSpPr>
        <p:spPr/>
        <p:txBody>
          <a:bodyPr/>
          <a:p>
            <a:fld id="{2BDB341B-9980-435C-8854-721D2C1A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28BC990D-F8D6-43AD-AE2C-E7509733B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F5B18F10-845F-403F-9C06-2D2B38D2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2FD630C-CA3F-4B59-B339-4D6636DB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6113D4-CB37-4A16-9415-FBBFC03D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7D3B098-DF79-43DF-8C3E-BD3FE45A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6A6B587-C000-4EBB-8C9B-9329E9BE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D25B5B06-D88E-44FE-B484-26796EF8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8DF57CB6-AD98-48B0-94C5-411BDBC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45E14B41-094B-4C00-A943-5E672CD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385CB01A-1DA1-48F8-A502-2C6B9C18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EF2940EE-92F7-4360-B4E1-1AE3E5EA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1AE4C71C-B131-4166-8FF8-E72B1DAC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8"/>
          </p:nvPr>
        </p:nvSpPr>
        <p:spPr/>
        <p:txBody>
          <a:bodyPr/>
          <a:p>
            <a:fld id="{C2B5AB95-8628-4200-B57A-5A91B822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28D974EF-7414-4B99-8435-F8303BF8E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3527CC-8285-44DC-88F8-735488B5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283A5F3-9CFA-4CDC-AF34-6DB1943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59722E8-BE9D-4AE1-B073-8D41C0B2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21A7B80-2C9D-4AA9-A6EE-C33C11F2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EB48C69-647B-45D6-BF3F-F48741C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34FB70A1-3DFE-40EB-B36D-110D838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6434DA89-0CC8-4794-A2F7-8A7206A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DB73B153-A532-4D37-944D-4E03CFFF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1C0C5FDF-6D93-4E12-90D1-55CB43B1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5E951407-B160-45B5-837D-D619E48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73B11BAB-FD45-4C41-BAFB-DAFC8BED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71AF2-7411-4DE5-A172-C67E0F1F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1"/>
          </p:nvPr>
        </p:nvSpPr>
        <p:spPr/>
        <p:txBody>
          <a:bodyPr/>
          <a:p>
            <a:fld id="{9D440C1E-9CA5-49E3-A3E3-8D7E477D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DE768F23-7552-46D3-B1FC-9EFBA0C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FDEFA23-A636-4539-8881-1422B756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090CF0D5-E85F-4338-9460-80F3CF0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2BA7CA19-FC51-4195-9E33-75B270D4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C6BBC3E4-3443-4A7D-91EF-DA2BE8A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37D76933-E3B4-48AC-8BD2-B098D6A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A37EC64A-4230-42FB-A207-5DB18D23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BE1D214-A20D-4E6E-A411-BE84EC76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6F70DEF4-7A12-4E90-B549-AB73FEE5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D8290C-2259-4D1E-BD23-69224DB8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E692AB3B-8C39-4A51-9E42-A5F6708D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112D3E69-2143-4324-AB30-CADA26017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4"/>
          </p:nvPr>
        </p:nvSpPr>
        <p:spPr/>
        <p:txBody>
          <a:bodyPr/>
          <a:p>
            <a:fld id="{4DCF4EC6-2489-4B72-9275-3C19A7D8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4D8865-18F2-4D18-962B-2865021C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FF6FAB2-8C6F-458D-8628-27038DF0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5717E8CE-BAEF-490E-AFF0-6B2B318F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A3C2A9F4-2089-4AA4-A93F-DC8CC4F1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64DDC2B5-E324-423D-9B53-6E5B5BC8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EB7C212D-3348-4CA7-BA0A-75A3D76E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3C63B1-D2A0-435E-BF5F-92A44738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DDE50C8-ED5E-4D74-9B7F-16902728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055BD2C3-343A-4DE8-81A7-AA144137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9C385581-94A0-488A-897C-3DE9C901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8691143B-180C-4C13-898E-7249E452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C68B8A43-5D3E-47F1-ABF8-1FEC73B8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3BA722A0-C171-4C01-B613-85627EA8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7"/>
          </p:nvPr>
        </p:nvSpPr>
        <p:spPr/>
        <p:txBody>
          <a:bodyPr/>
          <a:p>
            <a:fld id="{BE846D43-D1B3-4AA0-8420-49D9BCF9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4A6A5A4-5D3D-43C7-B673-05A953BE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79D08CA-A9A9-4B53-8D8C-70DED70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3DE0E2C-25A2-4044-9DF7-7E918543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B82-67DD-436B-B2B1-61D1B735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02744D-1191-408A-94BC-45EB5118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BEBCB12A-5E52-491A-A3DB-45813EA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258B5EF-5D2A-4131-B17F-4E82D2EE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0BEA6DD2-7A81-4764-A9A8-C5D28C6F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A66BB3BE-04EB-47DC-ADF0-2C7B3FD6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58EFF3E7-6798-4AB1-8807-81399BE0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41DC7D64-0FD5-498F-ADB5-342B636A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D7AA36CF-CAD2-459B-98BF-39C5A829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CB642658-CA98-4A5A-869E-0B702EA5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0"/>
          </p:nvPr>
        </p:nvSpPr>
        <p:spPr/>
        <p:txBody>
          <a:bodyPr/>
          <a:p>
            <a:fld id="{162AFEF4-C32C-4527-83D4-10E0D6ED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B84EFC2-A9A6-4724-83A4-CEE6916F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76D2B-1E77-44C0-BE57-1D7EC9D8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2C9CBCC9-2660-4EE2-A17E-351215AE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9E4FD27-0D55-4E04-9B86-B439C62FE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33BFB28-77BF-4914-998B-F4896A8F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EF05B02-7CFE-453F-A23F-2DFDE3C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41E8319-AE36-489A-BA13-83FA0119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E7D5D947-CD29-4B69-8E7A-DB0C8EAE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308804CE-394A-47ED-8745-2919087B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75BE203E-81DB-4C02-93C1-82478B3E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F5D6DDA6-1FCE-429E-B7FD-9A407497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8B42AE37-B28E-4091-94CE-73D459B0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33B4B-8941-4E51-9324-37CC3D18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3"/>
          </p:nvPr>
        </p:nvSpPr>
        <p:spPr/>
        <p:txBody>
          <a:bodyPr/>
          <a:p>
            <a:fld id="{DA7258DB-B0A7-425D-B37C-877A07EF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A669BB0-D9AA-4BAE-BD18-4E9653109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38C87E9-5303-4051-A46F-8C33F8DF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57728EC-32AC-4771-8336-CB520601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FB0AEF11-8270-46D8-8842-5E25F5E0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6AF24AA-A0F2-49AB-AFFC-C438D99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A663ED82-0AD0-4769-89A0-E2BE88C3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93D4530E-47E0-467E-A78F-50027176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39A1338-AFA6-41E3-97CC-DB21AED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B9DCF6B9-D7EE-4386-AEA2-F1A6D7B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432B1C-8DBE-4846-8B53-6CCD8D40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28818054-C501-4684-B502-CD23630D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C9D4F753-0D11-4B80-988B-D348ED03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6"/>
          </p:nvPr>
        </p:nvSpPr>
        <p:spPr/>
        <p:txBody>
          <a:bodyPr/>
          <a:p>
            <a:fld id="{4F060C2D-105B-4B7E-968C-268D24D51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44231D1-975D-4661-BD77-A6A40173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10183156-0952-44DF-AD69-554943B9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F3EAFE80-1ADF-4DF6-BB33-B5F790F1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1EAE35C-E8A7-41C1-93AD-D6C71197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B07DB84C-A2EC-4203-9C6E-20A6D7A2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8B11171-8A88-45A8-9C10-8CFEEE4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7FAEAC6-BC2C-44E6-8CB3-92CC9CD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57A3A8-229E-4105-835A-A05080AE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E039CF6E-52FD-42E3-999E-0AC58E51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3433CBA0-6C69-4BDA-AC5E-4B31EFFE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3328B59-3098-43AA-A983-39A005A1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99B4848D-8861-4A48-848E-532114C0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9"/>
          </p:nvPr>
        </p:nvSpPr>
        <p:spPr/>
        <p:txBody>
          <a:bodyPr/>
          <a:p>
            <a:fld id="{0B0A6DC5-8B6E-43D9-ACA7-3BBA265F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FF9D6706-F9ED-4FC5-A63E-3F094AF4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56A3FF2-042E-459A-A482-9531D4B4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5F9A204-487D-494F-A32B-0295606A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5D00893C-89A0-4246-AF90-62C18EF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7B0F1A01-7C1F-48BF-B4FA-7E78EA5A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E42772-0F50-496B-B66B-D1B385A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672425A-9B49-4744-A39E-A628731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752374E-201C-4516-91EF-7B2BFB69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D4D67C1-4FDA-4BF0-B390-29C94D5A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8B11C7D7-F621-4D67-839A-0806DEBD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9331AFB-DFCB-4452-9F6D-ACDA6379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0AF142D-1345-4A40-8ADD-ADF879FF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EC26F9D8-634B-42D8-BF4E-D22ADA4D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6515373-BF5F-4690-9C4C-E9067863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D668658B-74E1-4FC3-A34C-9E681E0F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27789F9-BAA5-44B5-9895-2C0084F1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F64D87-D200-4818-B9EA-229CFF07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455432A1-DA10-4AB1-8D26-1E1905B2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8307BB8F-3C03-4866-A351-B36F5A91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28434FB3-615B-4BF0-B549-5BC5AF84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527633AC-5514-492B-B405-A0B2A679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A826BCEB-BC14-4CAA-BE0B-B5EEA84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C80E1315-348B-49D9-AEB9-947C80FC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07DF111-23B9-4F66-A49D-908A7F9B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3BD66A0A-96A6-44E1-B33E-922382B4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5"/>
          </p:nvPr>
        </p:nvSpPr>
        <p:spPr/>
        <p:txBody>
          <a:bodyPr/>
          <a:p>
            <a:fld id="{E8A8A2A3-41AA-4693-B74C-25E0E0B2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AF97C70-141A-4DD6-9F24-13B58875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F8BFA6-7366-4FA9-9B58-D9A99EF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19244B4B-9D1E-4F2B-9681-4B1CC517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09714CD9-1FCA-43E6-A5DA-30D4BEFE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F3947363-E7A0-488D-8838-D84A977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CE501621-5538-4102-B86B-F623CE90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DD101E8-6473-4EEA-A45C-19D8C66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65A6363C-5335-4BCC-BC1D-F7A92DFD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E1C95DC4-1CC1-40B8-8D65-B7D7C1F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8DF1C9AB-C993-4ACE-9ABD-9DC7F836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BC8DBA98-C0E4-4687-BDB0-5B7F51C2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42D64742-4B8E-4676-BB60-8809A1F7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B1C45F-D2E3-4ADA-B72F-A6CE3D04B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8"/>
          </p:nvPr>
        </p:nvSpPr>
        <p:spPr/>
        <p:txBody>
          <a:bodyPr/>
          <a:p>
            <a:fld id="{9BC4E152-D83C-4AAC-B819-D9F37C913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1A38072C-EF27-4961-AA93-B1C11574A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A2CA00CE-F42B-43EA-81CF-D39AE254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F2CDE0C7-60E4-494D-A298-CCCC82A2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581F0877-EA38-40CA-8E60-B2D04FCD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4E5A7FA-9506-4C5F-ACE5-FF87F2B2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D8D5B270-C1E4-474C-91E1-E88788D7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4E4D63B2-5688-4769-A6D1-1C0D203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E865407-CBEB-491A-8C33-9BD395E7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AB6C27AE-246C-4622-A72A-4AE44389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D306D0-2C8B-42CC-9658-4C9A2D62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5067EF40-9E55-4D3B-9E2F-D88F0C64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3F2FCC97-D5EB-4D62-81F0-6EC38416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1"/>
          </p:nvPr>
        </p:nvSpPr>
        <p:spPr/>
        <p:txBody>
          <a:bodyPr/>
          <a:p>
            <a:fld id="{0ABFEF40-6B93-40BF-91EA-64CB3D95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596FD67-7F5E-48DA-8378-07F0C1F2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66C92C7-0F05-4DCA-BFAE-B30C9498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BF319DA0-DA21-4D94-952F-4F4C6CA8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5B8D32A7-0A6B-4354-BC5B-387B775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8F9A1904-E480-41C0-A011-AD15439E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9C7338CC-925B-4AF6-BDDC-E268D5C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D107A2E3-9A06-466C-9E10-20C355C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37EF-1B15-4909-9D9A-1D2955A7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557BDF-CC8B-40C3-B60B-794BEE84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E8E34E0F-106F-416E-8392-C37E4BD1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C91D5C42-98AA-4571-97A4-8535E89F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66D5FBC3-B3CC-4B52-AB39-89D33D88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F9C5192D-EEA3-4206-98A7-24FFE428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4"/>
          </p:nvPr>
        </p:nvSpPr>
        <p:spPr/>
        <p:txBody>
          <a:bodyPr/>
          <a:p>
            <a:fld id="{7A6F88D9-6B76-4A39-8A35-BBBAB47A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B149E-83BB-4043-B8CF-A4AA702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78886DBF-319C-4E0D-9C08-3E2B85EC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BE4AB7F4-B756-4189-9A8D-DA4CF86F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D227C8A-741B-4A26-876D-C913D031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8C1E3C-B345-4161-97A8-D4784968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CFE8122-B5A3-4C46-A739-3FECA672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52F5FB0-F072-4CB2-8AAF-4CDAEBD8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E0E98733-DC9C-4BBE-B702-CFC6C0F4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C2B26E12-BF87-4F96-AA4B-34F3AB2A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109FE3B0-938A-4AD6-B37D-C203657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6AE6146C-8336-41DD-8545-B4F8FFF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A9C7C688-ED22-4C62-A011-209658EB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5132DB63-5DB0-44C3-B5E2-E3309D0E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7"/>
          </p:nvPr>
        </p:nvSpPr>
        <p:spPr/>
        <p:txBody>
          <a:bodyPr/>
          <a:p>
            <a:fld id="{47361EF7-E0C5-45A6-B72F-75D4C4AD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D5C2D15-A761-4977-8F23-8B59FFA6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F33862-71BB-4799-8A72-76759066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625364BE-9D69-4205-9797-DFC5EAD6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962FD16-94F1-4F2D-B585-6746AE10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6208883-3DF3-48C1-90DF-469596E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CE17B570-AC40-492C-9639-52B10030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A3F1D86-35BA-4FF3-AAEB-2062C5DB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CB19BAE-BA60-49AD-9650-F35BBDEC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D483F9A1-8376-4A64-80D1-79BAE465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2C9604AD-9A8D-4CD1-9FD9-52EA57ED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F8C46B66-6D75-48D3-9FA4-6CBC5627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B54AE644-E6DD-4A82-AA91-ED1C48AC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E2F519-2636-4D6E-A84E-B2B1BF4F2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0"/>
          </p:nvPr>
        </p:nvSpPr>
        <p:spPr/>
        <p:txBody>
          <a:bodyPr/>
          <a:p>
            <a:fld id="{1D90964E-9296-4B15-8D39-02A32EA1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DD103327-9FA3-425B-886A-FA53CB9B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0F90192F-CF71-4B53-8E68-489C403E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EE5ABA8E-5CA9-4280-95AA-E5EFB0F4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5359D838-43F6-4F49-8711-F3129C74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37AAD0C5-9C89-4412-91D2-720720B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26BB017C-1857-4BFF-8AD2-7C0287A6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86D7EBCF-144F-4008-9617-1B6E573E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BB4A7CB7-A80C-4985-871A-BADEA89B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B6D07C27-8AE4-42A2-9937-302C3720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B20782-BE14-499C-9490-92F6444A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B817EEB3-9B12-492F-B819-9A3A758E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97D5DDBB-2983-424F-A472-934A02AA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3"/>
          </p:nvPr>
        </p:nvSpPr>
        <p:spPr/>
        <p:txBody>
          <a:bodyPr/>
          <a:p>
            <a:fld id="{A71CE7A9-9FBE-41F4-8D5D-50312B98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F4DD7F6C-6525-45A6-97B9-94D4FBE0F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937D5DC-7361-4F81-8579-9DE726FD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83F10A2-40F8-42A9-9AA5-82C99DE0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57BBEF78-3CDE-4308-8708-A0D2E10E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48E1153C-00C3-48CE-A8A5-846D5A88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6FB2F91C-1425-445C-B79C-18EB0268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D18919B0-BDBA-4DED-AB29-73278016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0E939-CA47-4A38-8AD9-9DF5680C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387B7DEC-8F79-4DB1-9004-68363B44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829FDE80-640F-498A-BAE0-8101553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B3D63DA1-5172-45FD-BD29-8E092A4A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76993A7D-D302-4193-AE84-CF630EE3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6"/>
          </p:nvPr>
        </p:nvSpPr>
        <p:spPr/>
        <p:txBody>
          <a:bodyPr/>
          <a:p>
            <a:fld id="{C8D4F175-EADA-45F9-9D27-33EACFB45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DF0E0F0-6C94-4046-A064-3085A769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D74264C4-98E5-40BF-8BEF-1AF24F27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B85BA96-7C35-4457-9713-78F7CB82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69EDDED4-CFD8-4479-8DCB-FD400E749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F42DB7E-D1F2-4A46-A173-67DE749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3B4248-F633-4315-9801-01CAE87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5102167E-0974-49E3-A297-9389D265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270B841D-2ED8-402F-BC87-56C3B300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7A7CC971-DCA3-48F9-90D8-38A8BA6C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BD290498-9E19-4B2C-BEF0-C342C981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2BD096D7-924B-4E7D-894A-ADABAFD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6BF689E-1919-4FCE-83F7-408399812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9"/>
          </p:nvPr>
        </p:nvSpPr>
        <p:spPr/>
        <p:txBody>
          <a:bodyPr/>
          <a:p>
            <a:fld id="{AB67082C-C978-4332-B500-5F89D67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35B7518-639D-41FF-AC80-36E8F89D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05FD0FC-B538-4D41-9AEF-90C25DDC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AF7853A-8D14-49AD-AA14-29E11C5B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C3D634-DB52-4127-8CD1-03D8690B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567B359F-4FBF-4FA9-821C-4506BAA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A7D7EF9-9E8A-422C-BB1B-8002D007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555228F-3176-40EC-BECB-80DD555D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5FD002A-3B02-4E04-A079-7AEC152F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CB6D573F-FE95-4A13-A594-8E9AFF8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2D612DF-6158-40EE-BAA7-57ADA71E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F1F1A009-A9EE-43F0-B6C5-DCFAD76D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31D70247-76F0-4D02-A22D-60306AFA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2"/>
          </p:nvPr>
        </p:nvSpPr>
        <p:spPr/>
        <p:txBody>
          <a:bodyPr/>
          <a:p>
            <a:fld id="{E03D6B3E-8BF7-455D-83EF-93C32389D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1E2D8BF-E128-4883-9D50-1A99E33D9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2F9DC-31BC-49C1-A3EF-D2CA626E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F416ED6E-A1AC-4337-98F7-F70096C9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37610477-8472-465B-AB10-06E9A298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E43F670-3B99-486D-9997-18D4B5AD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2520E560-0811-4610-A577-2E852D29E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551CFF62-1CBE-4794-99ED-B44E6C8D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16BD396-80BB-466C-9F4B-9A48079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9E29700D-886A-448C-9C87-A872E27D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B1648DD0-33DA-48D3-B4F4-9E54BC12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4C21AE7-A965-43F8-A4A1-C189287F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05EAD4BB-E2C2-49D1-87BF-1EE22537E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AEB-F00D-487F-B999-9B0484E1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6BA713-2214-454E-AAFE-8785907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5"/>
          </p:nvPr>
        </p:nvSpPr>
        <p:spPr/>
        <p:txBody>
          <a:bodyPr/>
          <a:p>
            <a:fld id="{4DB77634-6AD8-49FF-9795-D5B4B2D1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B23C1B25-626D-4BEE-BBD2-BFE94BDE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52D48BD-603E-4624-B5C6-66ED21EA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68C675F8-C1C0-45F6-8AD0-55A06187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0E28462-68C0-4D2B-80A7-A14A4533E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B022F87-5813-4974-9314-3E32225C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EF8C1752-11F4-4B6A-BAAB-F4DF6484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FFC6CBF3-8B11-482A-8278-CCA6C834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535A3D82-6A22-462C-80E2-5D0474B3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D5787E26-0CA1-4A8D-9B1C-82A79248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18198-C6EA-483F-871D-65AFEADD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373D4F09-40B9-491E-955F-AF389DD1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A1EB2A5D-F137-49EC-BEAF-D214EC9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8"/>
          </p:nvPr>
        </p:nvSpPr>
        <p:spPr/>
        <p:txBody>
          <a:bodyPr/>
          <a:p>
            <a:fld id="{05D4F4C2-0EE3-43FC-817E-59EB7F959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70CC4AA4-66F4-44BA-B119-01E76C4A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226D046-5A41-44D2-86C5-C30EF89C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62024B22-D676-4A6C-8560-B928C021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F076974-EA3B-4A80-B03A-8365A31B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ACA96F7E-2998-48D5-B851-22F77621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4A7ED25-389B-4DA9-8A74-4900CF63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41FFD64B-5480-42EC-889F-2FEDA378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CE6864-3518-41CF-8C1D-45ADD8A1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EACF0C61-4DCE-4B6D-B885-119F1AB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2FD2D842-DF4C-4D6B-AD7E-8AA6CA61D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5D960DBB-C7F6-4312-AADD-44F5F71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8946C789-D400-4911-B094-0B532DEE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1"/>
          </p:nvPr>
        </p:nvSpPr>
        <p:spPr/>
        <p:txBody>
          <a:bodyPr/>
          <a:p>
            <a:fld id="{1883A8BA-34E1-452B-805A-C56DEB8C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AB9B909-AF93-4BF6-A80B-51AD3269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B747F1D-4FFE-431B-A0B3-9B2C1715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EA2928D8-ABF6-4BB2-BF27-6F8B87F7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82E13007-DED5-4B4A-A7FD-BCF9E2BF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FE8CA94F-FD9E-4423-8F40-037B4C68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3BB00F-19D5-4A06-ACEB-9CF84DE9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9F7994A9-7D88-47D4-82E1-1F6C8AB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BAF85DDD-C3CB-457C-90E6-03F2700D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A5597D8-BFA7-4EA7-B5CE-A7EFBEBC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44CF67E-8ED1-42BB-9E8A-07B9ED48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C117AEE4-672F-4311-9585-DFFD738A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6B3714B5-DA3D-4A8D-84C2-94979354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4"/>
          </p:nvPr>
        </p:nvSpPr>
        <p:spPr/>
        <p:txBody>
          <a:bodyPr/>
          <a:p>
            <a:fld id="{178776CB-E71E-40B6-8913-8CC405EE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316650-0BD3-4B14-BAF5-D6D16997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8CE1EACB-A6AA-48AE-8C46-ADF4D8BC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6461FF-AB0C-40D5-B8F9-185D0448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E3E0EAF-D418-49B4-AAF3-D311DFDC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44E797A-2B82-4D9C-83FC-45452DE3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6E8A7547-DD98-4874-B828-D290B05C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B8C9FF54-FCF4-44E0-82A6-4D22C71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24B8FAE6-98FF-4C0D-B1BC-258A7E6E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6ABACEA-3280-4BE0-8A7E-A65254C3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D536E93-D0A2-4CDD-8EE0-82B6343E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050F63BE-FB85-408E-A5C3-150F35EF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1B3D7FEA-A586-4331-A8D9-87C0CC6B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734F3D76-2158-4E89-AF18-B9F96612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1F533C-8F2A-48D4-AF54-3E01E495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7"/>
          </p:nvPr>
        </p:nvSpPr>
        <p:spPr/>
        <p:txBody>
          <a:bodyPr/>
          <a:p>
            <a:fld id="{D79E741F-D7A2-48C7-BA38-4177FD0B0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4832DD2-EF80-416E-892D-50A0F0F99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3559059C-B572-4673-97AB-8EB8CCFD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F7C4192-9241-4300-A871-A291B18EE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8A6E4B29-4C0F-4B26-8090-64321FD0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151079B6-F353-4D08-B091-4A0C14C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1638217-147D-4240-A545-971A941E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702D5AE5-D9BC-4D27-B184-086C8E6D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ED0A80BC-AD7C-4DBA-9D2C-590C1963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42F8648D-1794-4596-9A05-094D801E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27B8FF-53CA-4C62-9761-6B8BA950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3F9A209-C70F-428B-BE45-C0CF1E5C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25B7F6A5-C6D9-4BD2-B71E-B14922F5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0"/>
          </p:nvPr>
        </p:nvSpPr>
        <p:spPr/>
        <p:txBody>
          <a:bodyPr/>
          <a:p>
            <a:fld id="{0AD0F36A-593B-446C-88A6-60751B49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A77402F-D081-4BB3-9884-B1783425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81911C37-9A0F-44E8-9CE0-5CDFEF18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961A368-05C9-4A97-A911-C32452D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753746B4-56CD-45EE-940D-A6A681CD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576B4B2A-0192-4602-87C4-9DE10538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E97A877A-F05F-44BA-A422-A3371F3B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D8D3D1B5-0216-454B-B809-3B42537E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C68F21-FD4D-4D34-9EAF-7B1C04B4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18AD3F3B-E046-4CC0-885E-8BEC9508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273744D-BD4C-49C3-B31F-7547E338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04EF5A12-B0D4-457A-9DC0-77F65D68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3E7270FD-8930-4577-AD19-85978A3A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3"/>
          </p:nvPr>
        </p:nvSpPr>
        <p:spPr/>
        <p:txBody>
          <a:bodyPr/>
          <a:p>
            <a:fld id="{93E77610-122B-4935-9B77-604A17D9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31F48B76-375A-458E-9F06-5260606A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484D351-53CA-40F9-8863-CDF98976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161FAF1-8EE9-4DD0-B4CA-B53DCEE5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49CD2CBC-DD50-437F-9D56-5D3CAE1F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EB9A9D29-13EA-4788-9D72-AE727173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58CA2-7FFB-4EA0-8753-C7C9D03F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7831BF52-E5C6-44B8-86BE-776C192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BF29606D-AE98-49AC-B9DC-A2B1A203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DD1E802-7532-4FE7-92ED-83D2E61B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C395F80D-BCD3-4503-BF8C-D235E55A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9F0FCCC2-39A8-46D0-8A9E-8C03876F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8CBE9A08-046E-4C1F-AE25-3761237B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6"/>
          </p:nvPr>
        </p:nvSpPr>
        <p:spPr/>
        <p:txBody>
          <a:bodyPr/>
          <a:p>
            <a:fld id="{FD79A916-BC00-4C60-9181-A2B50FF2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2C529D33-0C29-45C8-9343-F8D2ECBA9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EE80AD2B-28CE-4CD5-BD7C-901B0191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9"/>
          </p:nvPr>
        </p:nvSpPr>
        <p:spPr/>
        <p:txBody>
          <a:bodyPr/>
          <a:p>
            <a:fld id="{D4253083-D206-4118-9F5A-676302C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slideLayout" Target="../slideLayouts/slideLayout1189.xml"/><Relationship Id="rId3" Type="http://schemas.openxmlformats.org/officeDocument/2006/relationships/slideLayout" Target="../slideLayouts/slideLayout1190.xml"/><Relationship Id="rId4" Type="http://schemas.openxmlformats.org/officeDocument/2006/relationships/slideLayout" Target="../slideLayouts/slideLayout1191.xml"/><Relationship Id="rId5" Type="http://schemas.openxmlformats.org/officeDocument/2006/relationships/slideLayout" Target="../slideLayouts/slideLayout1192.xml"/><Relationship Id="rId6" Type="http://schemas.openxmlformats.org/officeDocument/2006/relationships/slideLayout" Target="../slideLayouts/slideLayout1193.xml"/><Relationship Id="rId7" Type="http://schemas.openxmlformats.org/officeDocument/2006/relationships/slideLayout" Target="../slideLayouts/slideLayout1194.xml"/><Relationship Id="rId8" Type="http://schemas.openxmlformats.org/officeDocument/2006/relationships/slideLayout" Target="../slideLayouts/slideLayout1195.xml"/><Relationship Id="rId9" Type="http://schemas.openxmlformats.org/officeDocument/2006/relationships/slideLayout" Target="../slideLayouts/slideLayout1196.xml"/><Relationship Id="rId10" Type="http://schemas.openxmlformats.org/officeDocument/2006/relationships/slideLayout" Target="../slideLayouts/slideLayout1197.xml"/><Relationship Id="rId11" Type="http://schemas.openxmlformats.org/officeDocument/2006/relationships/slideLayout" Target="../slideLayouts/slideLayout1198.xml"/><Relationship Id="rId12" Type="http://schemas.openxmlformats.org/officeDocument/2006/relationships/slideLayout" Target="../slideLayouts/slideLayout1199.xml"/><Relationship Id="rId13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slideLayout" Target="../slideLayouts/slideLayout1201.xml"/><Relationship Id="rId3" Type="http://schemas.openxmlformats.org/officeDocument/2006/relationships/slideLayout" Target="../slideLayouts/slideLayout1202.xml"/><Relationship Id="rId4" Type="http://schemas.openxmlformats.org/officeDocument/2006/relationships/slideLayout" Target="../slideLayouts/slideLayout1203.xml"/><Relationship Id="rId5" Type="http://schemas.openxmlformats.org/officeDocument/2006/relationships/slideLayout" Target="../slideLayouts/slideLayout1204.xml"/><Relationship Id="rId6" Type="http://schemas.openxmlformats.org/officeDocument/2006/relationships/slideLayout" Target="../slideLayouts/slideLayout1205.xml"/><Relationship Id="rId7" Type="http://schemas.openxmlformats.org/officeDocument/2006/relationships/slideLayout" Target="../slideLayouts/slideLayout1206.xml"/><Relationship Id="rId8" Type="http://schemas.openxmlformats.org/officeDocument/2006/relationships/slideLayout" Target="../slideLayouts/slideLayout1207.xml"/><Relationship Id="rId9" Type="http://schemas.openxmlformats.org/officeDocument/2006/relationships/slideLayout" Target="../slideLayouts/slideLayout1208.xml"/><Relationship Id="rId10" Type="http://schemas.openxmlformats.org/officeDocument/2006/relationships/slideLayout" Target="../slideLayouts/slideLayout1209.xml"/><Relationship Id="rId11" Type="http://schemas.openxmlformats.org/officeDocument/2006/relationships/slideLayout" Target="../slideLayouts/slideLayout1210.xml"/><Relationship Id="rId12" Type="http://schemas.openxmlformats.org/officeDocument/2006/relationships/slideLayout" Target="../slideLayouts/slideLayout1211.xml"/><Relationship Id="rId13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slideLayout" Target="../slideLayouts/slideLayout1213.xml"/><Relationship Id="rId3" Type="http://schemas.openxmlformats.org/officeDocument/2006/relationships/slideLayout" Target="../slideLayouts/slideLayout1214.xml"/><Relationship Id="rId4" Type="http://schemas.openxmlformats.org/officeDocument/2006/relationships/slideLayout" Target="../slideLayouts/slideLayout1215.xml"/><Relationship Id="rId5" Type="http://schemas.openxmlformats.org/officeDocument/2006/relationships/slideLayout" Target="../slideLayouts/slideLayout1216.xml"/><Relationship Id="rId6" Type="http://schemas.openxmlformats.org/officeDocument/2006/relationships/slideLayout" Target="../slideLayouts/slideLayout1217.xml"/><Relationship Id="rId7" Type="http://schemas.openxmlformats.org/officeDocument/2006/relationships/slideLayout" Target="../slideLayouts/slideLayout1218.xml"/><Relationship Id="rId8" Type="http://schemas.openxmlformats.org/officeDocument/2006/relationships/slideLayout" Target="../slideLayouts/slideLayout1219.xml"/><Relationship Id="rId9" Type="http://schemas.openxmlformats.org/officeDocument/2006/relationships/slideLayout" Target="../slideLayouts/slideLayout1220.xml"/><Relationship Id="rId10" Type="http://schemas.openxmlformats.org/officeDocument/2006/relationships/slideLayout" Target="../slideLayouts/slideLayout1221.xml"/><Relationship Id="rId11" Type="http://schemas.openxmlformats.org/officeDocument/2006/relationships/slideLayout" Target="../slideLayouts/slideLayout1222.xml"/><Relationship Id="rId12" Type="http://schemas.openxmlformats.org/officeDocument/2006/relationships/slideLayout" Target="../slideLayouts/slideLayout1223.xml"/><Relationship Id="rId13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slideLayout" Target="../slideLayouts/slideLayout1225.xml"/><Relationship Id="rId3" Type="http://schemas.openxmlformats.org/officeDocument/2006/relationships/slideLayout" Target="../slideLayouts/slideLayout1226.xml"/><Relationship Id="rId4" Type="http://schemas.openxmlformats.org/officeDocument/2006/relationships/slideLayout" Target="../slideLayouts/slideLayout1227.xml"/><Relationship Id="rId5" Type="http://schemas.openxmlformats.org/officeDocument/2006/relationships/slideLayout" Target="../slideLayouts/slideLayout1228.xml"/><Relationship Id="rId6" Type="http://schemas.openxmlformats.org/officeDocument/2006/relationships/slideLayout" Target="../slideLayouts/slideLayout1229.xml"/><Relationship Id="rId7" Type="http://schemas.openxmlformats.org/officeDocument/2006/relationships/slideLayout" Target="../slideLayouts/slideLayout1230.xml"/><Relationship Id="rId8" Type="http://schemas.openxmlformats.org/officeDocument/2006/relationships/slideLayout" Target="../slideLayouts/slideLayout1231.xml"/><Relationship Id="rId9" Type="http://schemas.openxmlformats.org/officeDocument/2006/relationships/slideLayout" Target="../slideLayouts/slideLayout1232.xml"/><Relationship Id="rId10" Type="http://schemas.openxmlformats.org/officeDocument/2006/relationships/slideLayout" Target="../slideLayouts/slideLayout1233.xml"/><Relationship Id="rId11" Type="http://schemas.openxmlformats.org/officeDocument/2006/relationships/slideLayout" Target="../slideLayouts/slideLayout1234.xml"/><Relationship Id="rId12" Type="http://schemas.openxmlformats.org/officeDocument/2006/relationships/slideLayout" Target="../slideLayouts/slideLayout1235.xml"/><Relationship Id="rId13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slideLayout" Target="../slideLayouts/slideLayout1237.xml"/><Relationship Id="rId3" Type="http://schemas.openxmlformats.org/officeDocument/2006/relationships/slideLayout" Target="../slideLayouts/slideLayout1238.xml"/><Relationship Id="rId4" Type="http://schemas.openxmlformats.org/officeDocument/2006/relationships/slideLayout" Target="../slideLayouts/slideLayout1239.xml"/><Relationship Id="rId5" Type="http://schemas.openxmlformats.org/officeDocument/2006/relationships/slideLayout" Target="../slideLayouts/slideLayout1240.xml"/><Relationship Id="rId6" Type="http://schemas.openxmlformats.org/officeDocument/2006/relationships/slideLayout" Target="../slideLayouts/slideLayout1241.xml"/><Relationship Id="rId7" Type="http://schemas.openxmlformats.org/officeDocument/2006/relationships/slideLayout" Target="../slideLayouts/slideLayout1242.xml"/><Relationship Id="rId8" Type="http://schemas.openxmlformats.org/officeDocument/2006/relationships/slideLayout" Target="../slideLayouts/slideLayout1243.xml"/><Relationship Id="rId9" Type="http://schemas.openxmlformats.org/officeDocument/2006/relationships/slideLayout" Target="../slideLayouts/slideLayout1244.xml"/><Relationship Id="rId10" Type="http://schemas.openxmlformats.org/officeDocument/2006/relationships/slideLayout" Target="../slideLayouts/slideLayout1245.xml"/><Relationship Id="rId11" Type="http://schemas.openxmlformats.org/officeDocument/2006/relationships/slideLayout" Target="../slideLayouts/slideLayout1246.xml"/><Relationship Id="rId12" Type="http://schemas.openxmlformats.org/officeDocument/2006/relationships/slideLayout" Target="../slideLayouts/slideLayout1247.xml"/><Relationship Id="rId13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slideLayout" Target="../slideLayouts/slideLayout1249.xml"/><Relationship Id="rId3" Type="http://schemas.openxmlformats.org/officeDocument/2006/relationships/slideLayout" Target="../slideLayouts/slideLayout1250.xml"/><Relationship Id="rId4" Type="http://schemas.openxmlformats.org/officeDocument/2006/relationships/slideLayout" Target="../slideLayouts/slideLayout1251.xml"/><Relationship Id="rId5" Type="http://schemas.openxmlformats.org/officeDocument/2006/relationships/slideLayout" Target="../slideLayouts/slideLayout1252.xml"/><Relationship Id="rId6" Type="http://schemas.openxmlformats.org/officeDocument/2006/relationships/slideLayout" Target="../slideLayouts/slideLayout1253.xml"/><Relationship Id="rId7" Type="http://schemas.openxmlformats.org/officeDocument/2006/relationships/slideLayout" Target="../slideLayouts/slideLayout1254.xml"/><Relationship Id="rId8" Type="http://schemas.openxmlformats.org/officeDocument/2006/relationships/slideLayout" Target="../slideLayouts/slideLayout1255.xml"/><Relationship Id="rId9" Type="http://schemas.openxmlformats.org/officeDocument/2006/relationships/slideLayout" Target="../slideLayouts/slideLayout1256.xml"/><Relationship Id="rId10" Type="http://schemas.openxmlformats.org/officeDocument/2006/relationships/slideLayout" Target="../slideLayouts/slideLayout1257.xml"/><Relationship Id="rId11" Type="http://schemas.openxmlformats.org/officeDocument/2006/relationships/slideLayout" Target="../slideLayouts/slideLayout1258.xml"/><Relationship Id="rId12" Type="http://schemas.openxmlformats.org/officeDocument/2006/relationships/slideLayout" Target="../slideLayouts/slideLayout1259.xml"/><Relationship Id="rId13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slideLayout" Target="../slideLayouts/slideLayout1261.xml"/><Relationship Id="rId3" Type="http://schemas.openxmlformats.org/officeDocument/2006/relationships/slideLayout" Target="../slideLayouts/slideLayout1262.xml"/><Relationship Id="rId4" Type="http://schemas.openxmlformats.org/officeDocument/2006/relationships/slideLayout" Target="../slideLayouts/slideLayout1263.xml"/><Relationship Id="rId5" Type="http://schemas.openxmlformats.org/officeDocument/2006/relationships/slideLayout" Target="../slideLayouts/slideLayout1264.xml"/><Relationship Id="rId6" Type="http://schemas.openxmlformats.org/officeDocument/2006/relationships/slideLayout" Target="../slideLayouts/slideLayout1265.xml"/><Relationship Id="rId7" Type="http://schemas.openxmlformats.org/officeDocument/2006/relationships/slideLayout" Target="../slideLayouts/slideLayout1266.xml"/><Relationship Id="rId8" Type="http://schemas.openxmlformats.org/officeDocument/2006/relationships/slideLayout" Target="../slideLayouts/slideLayout1267.xml"/><Relationship Id="rId9" Type="http://schemas.openxmlformats.org/officeDocument/2006/relationships/slideLayout" Target="../slideLayouts/slideLayout1268.xml"/><Relationship Id="rId10" Type="http://schemas.openxmlformats.org/officeDocument/2006/relationships/slideLayout" Target="../slideLayouts/slideLayout1269.xml"/><Relationship Id="rId11" Type="http://schemas.openxmlformats.org/officeDocument/2006/relationships/slideLayout" Target="../slideLayouts/slideLayout1270.xml"/><Relationship Id="rId12" Type="http://schemas.openxmlformats.org/officeDocument/2006/relationships/slideLayout" Target="../slideLayouts/slideLayout1271.xml"/><Relationship Id="rId13" Type="http://schemas.openxmlformats.org/officeDocument/2006/relationships/slideLayout" Target="../slideLayouts/slideLayout1272.xml"/>
</Relationships>
</file>

<file path=ppt/slideMasters/_rels/slideMaster107.xml.rels><?xml version="1.0" encoding="UTF-8"?>
<Relationships xmlns="http://schemas.openxmlformats.org/package/2006/relationships"><Relationship Id="rId1" Type="http://schemas.openxmlformats.org/officeDocument/2006/relationships/theme" Target="../theme/theme107.xml"/><Relationship Id="rId2" Type="http://schemas.openxmlformats.org/officeDocument/2006/relationships/slideLayout" Target="../slideLayouts/slideLayout1273.xml"/><Relationship Id="rId3" Type="http://schemas.openxmlformats.org/officeDocument/2006/relationships/slideLayout" Target="../slideLayouts/slideLayout1274.xml"/><Relationship Id="rId4" Type="http://schemas.openxmlformats.org/officeDocument/2006/relationships/slideLayout" Target="../slideLayouts/slideLayout1275.xml"/><Relationship Id="rId5" Type="http://schemas.openxmlformats.org/officeDocument/2006/relationships/slideLayout" Target="../slideLayouts/slideLayout1276.xml"/><Relationship Id="rId6" Type="http://schemas.openxmlformats.org/officeDocument/2006/relationships/slideLayout" Target="../slideLayouts/slideLayout1277.xml"/><Relationship Id="rId7" Type="http://schemas.openxmlformats.org/officeDocument/2006/relationships/slideLayout" Target="../slideLayouts/slideLayout1278.xml"/><Relationship Id="rId8" Type="http://schemas.openxmlformats.org/officeDocument/2006/relationships/slideLayout" Target="../slideLayouts/slideLayout1279.xml"/><Relationship Id="rId9" Type="http://schemas.openxmlformats.org/officeDocument/2006/relationships/slideLayout" Target="../slideLayouts/slideLayout1280.xml"/><Relationship Id="rId10" Type="http://schemas.openxmlformats.org/officeDocument/2006/relationships/slideLayout" Target="../slideLayouts/slideLayout1281.xml"/><Relationship Id="rId11" Type="http://schemas.openxmlformats.org/officeDocument/2006/relationships/slideLayout" Target="../slideLayouts/slideLayout1282.xml"/><Relationship Id="rId12" Type="http://schemas.openxmlformats.org/officeDocument/2006/relationships/slideLayout" Target="../slideLayouts/slideLayout1283.xml"/><Relationship Id="rId13" Type="http://schemas.openxmlformats.org/officeDocument/2006/relationships/slideLayout" Target="../slideLayouts/slideLayout1284.xml"/>
</Relationships>
</file>

<file path=ppt/slideMasters/_rels/slideMaster108.xml.rels><?xml version="1.0" encoding="UTF-8"?>
<Relationships xmlns="http://schemas.openxmlformats.org/package/2006/relationships"><Relationship Id="rId1" Type="http://schemas.openxmlformats.org/officeDocument/2006/relationships/theme" Target="../theme/theme108.xml"/><Relationship Id="rId2" Type="http://schemas.openxmlformats.org/officeDocument/2006/relationships/slideLayout" Target="../slideLayouts/slideLayout1285.xml"/><Relationship Id="rId3" Type="http://schemas.openxmlformats.org/officeDocument/2006/relationships/slideLayout" Target="../slideLayouts/slideLayout1286.xml"/><Relationship Id="rId4" Type="http://schemas.openxmlformats.org/officeDocument/2006/relationships/slideLayout" Target="../slideLayouts/slideLayout1287.xml"/><Relationship Id="rId5" Type="http://schemas.openxmlformats.org/officeDocument/2006/relationships/slideLayout" Target="../slideLayouts/slideLayout1288.xml"/><Relationship Id="rId6" Type="http://schemas.openxmlformats.org/officeDocument/2006/relationships/slideLayout" Target="../slideLayouts/slideLayout1289.xml"/><Relationship Id="rId7" Type="http://schemas.openxmlformats.org/officeDocument/2006/relationships/slideLayout" Target="../slideLayouts/slideLayout1290.xml"/><Relationship Id="rId8" Type="http://schemas.openxmlformats.org/officeDocument/2006/relationships/slideLayout" Target="../slideLayouts/slideLayout1291.xml"/><Relationship Id="rId9" Type="http://schemas.openxmlformats.org/officeDocument/2006/relationships/slideLayout" Target="../slideLayouts/slideLayout1292.xml"/><Relationship Id="rId10" Type="http://schemas.openxmlformats.org/officeDocument/2006/relationships/slideLayout" Target="../slideLayouts/slideLayout1293.xml"/><Relationship Id="rId11" Type="http://schemas.openxmlformats.org/officeDocument/2006/relationships/slideLayout" Target="../slideLayouts/slideLayout1294.xml"/><Relationship Id="rId12" Type="http://schemas.openxmlformats.org/officeDocument/2006/relationships/slideLayout" Target="../slideLayouts/slideLayout1295.xml"/><Relationship Id="rId13" Type="http://schemas.openxmlformats.org/officeDocument/2006/relationships/slideLayout" Target="../slideLayouts/slideLayout1296.xml"/>
</Relationships>
</file>

<file path=ppt/slideMasters/_rels/slideMaster109.xml.rels><?xml version="1.0" encoding="UTF-8"?>
<Relationships xmlns="http://schemas.openxmlformats.org/package/2006/relationships"><Relationship Id="rId1" Type="http://schemas.openxmlformats.org/officeDocument/2006/relationships/theme" Target="../theme/theme109.xml"/><Relationship Id="rId2" Type="http://schemas.openxmlformats.org/officeDocument/2006/relationships/slideLayout" Target="../slideLayouts/slideLayout1297.xml"/><Relationship Id="rId3" Type="http://schemas.openxmlformats.org/officeDocument/2006/relationships/slideLayout" Target="../slideLayouts/slideLayout1298.xml"/><Relationship Id="rId4" Type="http://schemas.openxmlformats.org/officeDocument/2006/relationships/slideLayout" Target="../slideLayouts/slideLayout1299.xml"/><Relationship Id="rId5" Type="http://schemas.openxmlformats.org/officeDocument/2006/relationships/slideLayout" Target="../slideLayouts/slideLayout1300.xml"/><Relationship Id="rId6" Type="http://schemas.openxmlformats.org/officeDocument/2006/relationships/slideLayout" Target="../slideLayouts/slideLayout1301.xml"/><Relationship Id="rId7" Type="http://schemas.openxmlformats.org/officeDocument/2006/relationships/slideLayout" Target="../slideLayouts/slideLayout1302.xml"/><Relationship Id="rId8" Type="http://schemas.openxmlformats.org/officeDocument/2006/relationships/slideLayout" Target="../slideLayouts/slideLayout1303.xml"/><Relationship Id="rId9" Type="http://schemas.openxmlformats.org/officeDocument/2006/relationships/slideLayout" Target="../slideLayouts/slideLayout1304.xml"/><Relationship Id="rId10" Type="http://schemas.openxmlformats.org/officeDocument/2006/relationships/slideLayout" Target="../slideLayouts/slideLayout1305.xml"/><Relationship Id="rId11" Type="http://schemas.openxmlformats.org/officeDocument/2006/relationships/slideLayout" Target="../slideLayouts/slideLayout1306.xml"/><Relationship Id="rId12" Type="http://schemas.openxmlformats.org/officeDocument/2006/relationships/slideLayout" Target="../slideLayouts/slideLayout1307.xml"/><Relationship Id="rId13" Type="http://schemas.openxmlformats.org/officeDocument/2006/relationships/slideLayout" Target="../slideLayouts/slideLayout1308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10.xml.rels><?xml version="1.0" encoding="UTF-8"?>
<Relationships xmlns="http://schemas.openxmlformats.org/package/2006/relationships"><Relationship Id="rId1" Type="http://schemas.openxmlformats.org/officeDocument/2006/relationships/theme" Target="../theme/theme110.xml"/><Relationship Id="rId2" Type="http://schemas.openxmlformats.org/officeDocument/2006/relationships/slideLayout" Target="../slideLayouts/slideLayout1309.xml"/><Relationship Id="rId3" Type="http://schemas.openxmlformats.org/officeDocument/2006/relationships/slideLayout" Target="../slideLayouts/slideLayout1310.xml"/><Relationship Id="rId4" Type="http://schemas.openxmlformats.org/officeDocument/2006/relationships/slideLayout" Target="../slideLayouts/slideLayout1311.xml"/><Relationship Id="rId5" Type="http://schemas.openxmlformats.org/officeDocument/2006/relationships/slideLayout" Target="../slideLayouts/slideLayout1312.xml"/><Relationship Id="rId6" Type="http://schemas.openxmlformats.org/officeDocument/2006/relationships/slideLayout" Target="../slideLayouts/slideLayout1313.xml"/><Relationship Id="rId7" Type="http://schemas.openxmlformats.org/officeDocument/2006/relationships/slideLayout" Target="../slideLayouts/slideLayout1314.xml"/><Relationship Id="rId8" Type="http://schemas.openxmlformats.org/officeDocument/2006/relationships/slideLayout" Target="../slideLayouts/slideLayout1315.xml"/><Relationship Id="rId9" Type="http://schemas.openxmlformats.org/officeDocument/2006/relationships/slideLayout" Target="../slideLayouts/slideLayout1316.xml"/><Relationship Id="rId10" Type="http://schemas.openxmlformats.org/officeDocument/2006/relationships/slideLayout" Target="../slideLayouts/slideLayout1317.xml"/><Relationship Id="rId11" Type="http://schemas.openxmlformats.org/officeDocument/2006/relationships/slideLayout" Target="../slideLayouts/slideLayout1318.xml"/><Relationship Id="rId12" Type="http://schemas.openxmlformats.org/officeDocument/2006/relationships/slideLayout" Target="../slideLayouts/slideLayout1319.xml"/><Relationship Id="rId13" Type="http://schemas.openxmlformats.org/officeDocument/2006/relationships/slideLayout" Target="../slideLayouts/slideLayout1320.xml"/>
</Relationships>
</file>

<file path=ppt/slideMasters/_rels/slideMaster111.xml.rels><?xml version="1.0" encoding="UTF-8"?>
<Relationships xmlns="http://schemas.openxmlformats.org/package/2006/relationships"><Relationship Id="rId1" Type="http://schemas.openxmlformats.org/officeDocument/2006/relationships/theme" Target="../theme/theme111.xml"/><Relationship Id="rId2" Type="http://schemas.openxmlformats.org/officeDocument/2006/relationships/slideLayout" Target="../slideLayouts/slideLayout1321.xml"/><Relationship Id="rId3" Type="http://schemas.openxmlformats.org/officeDocument/2006/relationships/slideLayout" Target="../slideLayouts/slideLayout1322.xml"/><Relationship Id="rId4" Type="http://schemas.openxmlformats.org/officeDocument/2006/relationships/slideLayout" Target="../slideLayouts/slideLayout1323.xml"/><Relationship Id="rId5" Type="http://schemas.openxmlformats.org/officeDocument/2006/relationships/slideLayout" Target="../slideLayouts/slideLayout1324.xml"/><Relationship Id="rId6" Type="http://schemas.openxmlformats.org/officeDocument/2006/relationships/slideLayout" Target="../slideLayouts/slideLayout1325.xml"/><Relationship Id="rId7" Type="http://schemas.openxmlformats.org/officeDocument/2006/relationships/slideLayout" Target="../slideLayouts/slideLayout1326.xml"/><Relationship Id="rId8" Type="http://schemas.openxmlformats.org/officeDocument/2006/relationships/slideLayout" Target="../slideLayouts/slideLayout1327.xml"/><Relationship Id="rId9" Type="http://schemas.openxmlformats.org/officeDocument/2006/relationships/slideLayout" Target="../slideLayouts/slideLayout1328.xml"/><Relationship Id="rId10" Type="http://schemas.openxmlformats.org/officeDocument/2006/relationships/slideLayout" Target="../slideLayouts/slideLayout1329.xml"/><Relationship Id="rId11" Type="http://schemas.openxmlformats.org/officeDocument/2006/relationships/slideLayout" Target="../slideLayouts/slideLayout1330.xml"/><Relationship Id="rId12" Type="http://schemas.openxmlformats.org/officeDocument/2006/relationships/slideLayout" Target="../slideLayouts/slideLayout1331.xml"/><Relationship Id="rId13" Type="http://schemas.openxmlformats.org/officeDocument/2006/relationships/slideLayout" Target="../slideLayouts/slideLayout1332.xml"/>
</Relationships>
</file>

<file path=ppt/slideMasters/_rels/slideMaster112.xml.rels><?xml version="1.0" encoding="UTF-8"?>
<Relationships xmlns="http://schemas.openxmlformats.org/package/2006/relationships"><Relationship Id="rId1" Type="http://schemas.openxmlformats.org/officeDocument/2006/relationships/theme" Target="../theme/theme112.xml"/><Relationship Id="rId2" Type="http://schemas.openxmlformats.org/officeDocument/2006/relationships/slideLayout" Target="../slideLayouts/slideLayout1333.xml"/><Relationship Id="rId3" Type="http://schemas.openxmlformats.org/officeDocument/2006/relationships/slideLayout" Target="../slideLayouts/slideLayout1334.xml"/><Relationship Id="rId4" Type="http://schemas.openxmlformats.org/officeDocument/2006/relationships/slideLayout" Target="../slideLayouts/slideLayout1335.xml"/><Relationship Id="rId5" Type="http://schemas.openxmlformats.org/officeDocument/2006/relationships/slideLayout" Target="../slideLayouts/slideLayout1336.xml"/><Relationship Id="rId6" Type="http://schemas.openxmlformats.org/officeDocument/2006/relationships/slideLayout" Target="../slideLayouts/slideLayout1337.xml"/><Relationship Id="rId7" Type="http://schemas.openxmlformats.org/officeDocument/2006/relationships/slideLayout" Target="../slideLayouts/slideLayout1338.xml"/><Relationship Id="rId8" Type="http://schemas.openxmlformats.org/officeDocument/2006/relationships/slideLayout" Target="../slideLayouts/slideLayout1339.xml"/><Relationship Id="rId9" Type="http://schemas.openxmlformats.org/officeDocument/2006/relationships/slideLayout" Target="../slideLayouts/slideLayout1340.xml"/><Relationship Id="rId10" Type="http://schemas.openxmlformats.org/officeDocument/2006/relationships/slideLayout" Target="../slideLayouts/slideLayout1341.xml"/><Relationship Id="rId11" Type="http://schemas.openxmlformats.org/officeDocument/2006/relationships/slideLayout" Target="../slideLayouts/slideLayout1342.xml"/><Relationship Id="rId12" Type="http://schemas.openxmlformats.org/officeDocument/2006/relationships/slideLayout" Target="../slideLayouts/slideLayout1343.xml"/><Relationship Id="rId13" Type="http://schemas.openxmlformats.org/officeDocument/2006/relationships/slideLayout" Target="../slideLayouts/slideLayout1344.xml"/>
</Relationships>
</file>

<file path=ppt/slideMasters/_rels/slideMaster113.xml.rels><?xml version="1.0" encoding="UTF-8"?>
<Relationships xmlns="http://schemas.openxmlformats.org/package/2006/relationships"><Relationship Id="rId1" Type="http://schemas.openxmlformats.org/officeDocument/2006/relationships/theme" Target="../theme/theme113.xml"/><Relationship Id="rId2" Type="http://schemas.openxmlformats.org/officeDocument/2006/relationships/slideLayout" Target="../slideLayouts/slideLayout1345.xml"/><Relationship Id="rId3" Type="http://schemas.openxmlformats.org/officeDocument/2006/relationships/slideLayout" Target="../slideLayouts/slideLayout1346.xml"/><Relationship Id="rId4" Type="http://schemas.openxmlformats.org/officeDocument/2006/relationships/slideLayout" Target="../slideLayouts/slideLayout1347.xml"/><Relationship Id="rId5" Type="http://schemas.openxmlformats.org/officeDocument/2006/relationships/slideLayout" Target="../slideLayouts/slideLayout1348.xml"/><Relationship Id="rId6" Type="http://schemas.openxmlformats.org/officeDocument/2006/relationships/slideLayout" Target="../slideLayouts/slideLayout1349.xml"/><Relationship Id="rId7" Type="http://schemas.openxmlformats.org/officeDocument/2006/relationships/slideLayout" Target="../slideLayouts/slideLayout1350.xml"/><Relationship Id="rId8" Type="http://schemas.openxmlformats.org/officeDocument/2006/relationships/slideLayout" Target="../slideLayouts/slideLayout1351.xml"/><Relationship Id="rId9" Type="http://schemas.openxmlformats.org/officeDocument/2006/relationships/slideLayout" Target="../slideLayouts/slideLayout1352.xml"/><Relationship Id="rId10" Type="http://schemas.openxmlformats.org/officeDocument/2006/relationships/slideLayout" Target="../slideLayouts/slideLayout1353.xml"/><Relationship Id="rId11" Type="http://schemas.openxmlformats.org/officeDocument/2006/relationships/slideLayout" Target="../slideLayouts/slideLayout1354.xml"/><Relationship Id="rId12" Type="http://schemas.openxmlformats.org/officeDocument/2006/relationships/slideLayout" Target="../slideLayouts/slideLayout1355.xml"/><Relationship Id="rId13" Type="http://schemas.openxmlformats.org/officeDocument/2006/relationships/slideLayout" Target="../slideLayouts/slideLayout1356.xml"/>
</Relationships>
</file>

<file path=ppt/slideMasters/_rels/slideMaster114.xml.rels><?xml version="1.0" encoding="UTF-8"?>
<Relationships xmlns="http://schemas.openxmlformats.org/package/2006/relationships"><Relationship Id="rId1" Type="http://schemas.openxmlformats.org/officeDocument/2006/relationships/theme" Target="../theme/theme114.xml"/><Relationship Id="rId2" Type="http://schemas.openxmlformats.org/officeDocument/2006/relationships/slideLayout" Target="../slideLayouts/slideLayout1357.xml"/><Relationship Id="rId3" Type="http://schemas.openxmlformats.org/officeDocument/2006/relationships/slideLayout" Target="../slideLayouts/slideLayout1358.xml"/><Relationship Id="rId4" Type="http://schemas.openxmlformats.org/officeDocument/2006/relationships/slideLayout" Target="../slideLayouts/slideLayout1359.xml"/><Relationship Id="rId5" Type="http://schemas.openxmlformats.org/officeDocument/2006/relationships/slideLayout" Target="../slideLayouts/slideLayout1360.xml"/><Relationship Id="rId6" Type="http://schemas.openxmlformats.org/officeDocument/2006/relationships/slideLayout" Target="../slideLayouts/slideLayout1361.xml"/><Relationship Id="rId7" Type="http://schemas.openxmlformats.org/officeDocument/2006/relationships/slideLayout" Target="../slideLayouts/slideLayout1362.xml"/><Relationship Id="rId8" Type="http://schemas.openxmlformats.org/officeDocument/2006/relationships/slideLayout" Target="../slideLayouts/slideLayout1363.xml"/><Relationship Id="rId9" Type="http://schemas.openxmlformats.org/officeDocument/2006/relationships/slideLayout" Target="../slideLayouts/slideLayout1364.xml"/><Relationship Id="rId10" Type="http://schemas.openxmlformats.org/officeDocument/2006/relationships/slideLayout" Target="../slideLayouts/slideLayout1365.xml"/><Relationship Id="rId11" Type="http://schemas.openxmlformats.org/officeDocument/2006/relationships/slideLayout" Target="../slideLayouts/slideLayout1366.xml"/><Relationship Id="rId12" Type="http://schemas.openxmlformats.org/officeDocument/2006/relationships/slideLayout" Target="../slideLayouts/slideLayout1367.xml"/><Relationship Id="rId13" Type="http://schemas.openxmlformats.org/officeDocument/2006/relationships/slideLayout" Target="../slideLayouts/slideLayout1368.xml"/>
</Relationships>
</file>

<file path=ppt/slideMasters/_rels/slideMaster115.xml.rels><?xml version="1.0" encoding="UTF-8"?>
<Relationships xmlns="http://schemas.openxmlformats.org/package/2006/relationships"><Relationship Id="rId1" Type="http://schemas.openxmlformats.org/officeDocument/2006/relationships/theme" Target="../theme/theme115.xml"/><Relationship Id="rId2" Type="http://schemas.openxmlformats.org/officeDocument/2006/relationships/slideLayout" Target="../slideLayouts/slideLayout1369.xml"/><Relationship Id="rId3" Type="http://schemas.openxmlformats.org/officeDocument/2006/relationships/slideLayout" Target="../slideLayouts/slideLayout1370.xml"/><Relationship Id="rId4" Type="http://schemas.openxmlformats.org/officeDocument/2006/relationships/slideLayout" Target="../slideLayouts/slideLayout1371.xml"/><Relationship Id="rId5" Type="http://schemas.openxmlformats.org/officeDocument/2006/relationships/slideLayout" Target="../slideLayouts/slideLayout1372.xml"/><Relationship Id="rId6" Type="http://schemas.openxmlformats.org/officeDocument/2006/relationships/slideLayout" Target="../slideLayouts/slideLayout1373.xml"/><Relationship Id="rId7" Type="http://schemas.openxmlformats.org/officeDocument/2006/relationships/slideLayout" Target="../slideLayouts/slideLayout1374.xml"/><Relationship Id="rId8" Type="http://schemas.openxmlformats.org/officeDocument/2006/relationships/slideLayout" Target="../slideLayouts/slideLayout1375.xml"/><Relationship Id="rId9" Type="http://schemas.openxmlformats.org/officeDocument/2006/relationships/slideLayout" Target="../slideLayouts/slideLayout1376.xml"/><Relationship Id="rId10" Type="http://schemas.openxmlformats.org/officeDocument/2006/relationships/slideLayout" Target="../slideLayouts/slideLayout1377.xml"/><Relationship Id="rId11" Type="http://schemas.openxmlformats.org/officeDocument/2006/relationships/slideLayout" Target="../slideLayouts/slideLayout1378.xml"/><Relationship Id="rId12" Type="http://schemas.openxmlformats.org/officeDocument/2006/relationships/slideLayout" Target="../slideLayouts/slideLayout1379.xml"/><Relationship Id="rId13" Type="http://schemas.openxmlformats.org/officeDocument/2006/relationships/slideLayout" Target="../slideLayouts/slideLayout1380.xml"/>
</Relationships>
</file>

<file path=ppt/slideMasters/_rels/slideMaster116.xml.rels><?xml version="1.0" encoding="UTF-8"?>
<Relationships xmlns="http://schemas.openxmlformats.org/package/2006/relationships"><Relationship Id="rId1" Type="http://schemas.openxmlformats.org/officeDocument/2006/relationships/theme" Target="../theme/theme116.xml"/><Relationship Id="rId2" Type="http://schemas.openxmlformats.org/officeDocument/2006/relationships/slideLayout" Target="../slideLayouts/slideLayout1381.xml"/><Relationship Id="rId3" Type="http://schemas.openxmlformats.org/officeDocument/2006/relationships/slideLayout" Target="../slideLayouts/slideLayout1382.xml"/><Relationship Id="rId4" Type="http://schemas.openxmlformats.org/officeDocument/2006/relationships/slideLayout" Target="../slideLayouts/slideLayout1383.xml"/><Relationship Id="rId5" Type="http://schemas.openxmlformats.org/officeDocument/2006/relationships/slideLayout" Target="../slideLayouts/slideLayout1384.xml"/><Relationship Id="rId6" Type="http://schemas.openxmlformats.org/officeDocument/2006/relationships/slideLayout" Target="../slideLayouts/slideLayout1385.xml"/><Relationship Id="rId7" Type="http://schemas.openxmlformats.org/officeDocument/2006/relationships/slideLayout" Target="../slideLayouts/slideLayout1386.xml"/><Relationship Id="rId8" Type="http://schemas.openxmlformats.org/officeDocument/2006/relationships/slideLayout" Target="../slideLayouts/slideLayout1387.xml"/><Relationship Id="rId9" Type="http://schemas.openxmlformats.org/officeDocument/2006/relationships/slideLayout" Target="../slideLayouts/slideLayout1388.xml"/><Relationship Id="rId10" Type="http://schemas.openxmlformats.org/officeDocument/2006/relationships/slideLayout" Target="../slideLayouts/slideLayout1389.xml"/><Relationship Id="rId11" Type="http://schemas.openxmlformats.org/officeDocument/2006/relationships/slideLayout" Target="../slideLayouts/slideLayout1390.xml"/><Relationship Id="rId12" Type="http://schemas.openxmlformats.org/officeDocument/2006/relationships/slideLayout" Target="../slideLayouts/slideLayout1391.xml"/><Relationship Id="rId13" Type="http://schemas.openxmlformats.org/officeDocument/2006/relationships/slideLayout" Target="../slideLayouts/slideLayout1392.xml"/>
</Relationships>
</file>

<file path=ppt/slideMasters/_rels/slideMaster117.xml.rels><?xml version="1.0" encoding="UTF-8"?>
<Relationships xmlns="http://schemas.openxmlformats.org/package/2006/relationships"><Relationship Id="rId1" Type="http://schemas.openxmlformats.org/officeDocument/2006/relationships/theme" Target="../theme/theme117.xml"/><Relationship Id="rId2" Type="http://schemas.openxmlformats.org/officeDocument/2006/relationships/slideLayout" Target="../slideLayouts/slideLayout1393.xml"/><Relationship Id="rId3" Type="http://schemas.openxmlformats.org/officeDocument/2006/relationships/slideLayout" Target="../slideLayouts/slideLayout1394.xml"/><Relationship Id="rId4" Type="http://schemas.openxmlformats.org/officeDocument/2006/relationships/slideLayout" Target="../slideLayouts/slideLayout1395.xml"/><Relationship Id="rId5" Type="http://schemas.openxmlformats.org/officeDocument/2006/relationships/slideLayout" Target="../slideLayouts/slideLayout1396.xml"/><Relationship Id="rId6" Type="http://schemas.openxmlformats.org/officeDocument/2006/relationships/slideLayout" Target="../slideLayouts/slideLayout1397.xml"/><Relationship Id="rId7" Type="http://schemas.openxmlformats.org/officeDocument/2006/relationships/slideLayout" Target="../slideLayouts/slideLayout1398.xml"/><Relationship Id="rId8" Type="http://schemas.openxmlformats.org/officeDocument/2006/relationships/slideLayout" Target="../slideLayouts/slideLayout1399.xml"/><Relationship Id="rId9" Type="http://schemas.openxmlformats.org/officeDocument/2006/relationships/slideLayout" Target="../slideLayouts/slideLayout1400.xml"/><Relationship Id="rId10" Type="http://schemas.openxmlformats.org/officeDocument/2006/relationships/slideLayout" Target="../slideLayouts/slideLayout1401.xml"/><Relationship Id="rId11" Type="http://schemas.openxmlformats.org/officeDocument/2006/relationships/slideLayout" Target="../slideLayouts/slideLayout1402.xml"/><Relationship Id="rId12" Type="http://schemas.openxmlformats.org/officeDocument/2006/relationships/slideLayout" Target="../slideLayouts/slideLayout1403.xml"/><Relationship Id="rId13" Type="http://schemas.openxmlformats.org/officeDocument/2006/relationships/slideLayout" Target="../slideLayouts/slideLayout1404.xml"/>
</Relationships>
</file>

<file path=ppt/slideMasters/_rels/slideMaster118.xml.rels><?xml version="1.0" encoding="UTF-8"?>
<Relationships xmlns="http://schemas.openxmlformats.org/package/2006/relationships"><Relationship Id="rId1" Type="http://schemas.openxmlformats.org/officeDocument/2006/relationships/theme" Target="../theme/theme118.xml"/><Relationship Id="rId2" Type="http://schemas.openxmlformats.org/officeDocument/2006/relationships/slideLayout" Target="../slideLayouts/slideLayout1405.xml"/><Relationship Id="rId3" Type="http://schemas.openxmlformats.org/officeDocument/2006/relationships/slideLayout" Target="../slideLayouts/slideLayout1406.xml"/><Relationship Id="rId4" Type="http://schemas.openxmlformats.org/officeDocument/2006/relationships/slideLayout" Target="../slideLayouts/slideLayout1407.xml"/><Relationship Id="rId5" Type="http://schemas.openxmlformats.org/officeDocument/2006/relationships/slideLayout" Target="../slideLayouts/slideLayout1408.xml"/><Relationship Id="rId6" Type="http://schemas.openxmlformats.org/officeDocument/2006/relationships/slideLayout" Target="../slideLayouts/slideLayout1409.xml"/><Relationship Id="rId7" Type="http://schemas.openxmlformats.org/officeDocument/2006/relationships/slideLayout" Target="../slideLayouts/slideLayout1410.xml"/><Relationship Id="rId8" Type="http://schemas.openxmlformats.org/officeDocument/2006/relationships/slideLayout" Target="../slideLayouts/slideLayout1411.xml"/><Relationship Id="rId9" Type="http://schemas.openxmlformats.org/officeDocument/2006/relationships/slideLayout" Target="../slideLayouts/slideLayout1412.xml"/><Relationship Id="rId10" Type="http://schemas.openxmlformats.org/officeDocument/2006/relationships/slideLayout" Target="../slideLayouts/slideLayout1413.xml"/><Relationship Id="rId11" Type="http://schemas.openxmlformats.org/officeDocument/2006/relationships/slideLayout" Target="../slideLayouts/slideLayout1414.xml"/><Relationship Id="rId12" Type="http://schemas.openxmlformats.org/officeDocument/2006/relationships/slideLayout" Target="../slideLayouts/slideLayout1415.xml"/><Relationship Id="rId13" Type="http://schemas.openxmlformats.org/officeDocument/2006/relationships/slideLayout" Target="../slideLayouts/slideLayout1416.xml"/>
</Relationships>
</file>

<file path=ppt/slideMasters/_rels/slideMaster119.xml.rels><?xml version="1.0" encoding="UTF-8"?>
<Relationships xmlns="http://schemas.openxmlformats.org/package/2006/relationships"><Relationship Id="rId1" Type="http://schemas.openxmlformats.org/officeDocument/2006/relationships/theme" Target="../theme/theme119.xml"/><Relationship Id="rId2" Type="http://schemas.openxmlformats.org/officeDocument/2006/relationships/slideLayout" Target="../slideLayouts/slideLayout1417.xml"/><Relationship Id="rId3" Type="http://schemas.openxmlformats.org/officeDocument/2006/relationships/slideLayout" Target="../slideLayouts/slideLayout1418.xml"/><Relationship Id="rId4" Type="http://schemas.openxmlformats.org/officeDocument/2006/relationships/slideLayout" Target="../slideLayouts/slideLayout1419.xml"/><Relationship Id="rId5" Type="http://schemas.openxmlformats.org/officeDocument/2006/relationships/slideLayout" Target="../slideLayouts/slideLayout1420.xml"/><Relationship Id="rId6" Type="http://schemas.openxmlformats.org/officeDocument/2006/relationships/slideLayout" Target="../slideLayouts/slideLayout1421.xml"/><Relationship Id="rId7" Type="http://schemas.openxmlformats.org/officeDocument/2006/relationships/slideLayout" Target="../slideLayouts/slideLayout1422.xml"/><Relationship Id="rId8" Type="http://schemas.openxmlformats.org/officeDocument/2006/relationships/slideLayout" Target="../slideLayouts/slideLayout1423.xml"/><Relationship Id="rId9" Type="http://schemas.openxmlformats.org/officeDocument/2006/relationships/slideLayout" Target="../slideLayouts/slideLayout1424.xml"/><Relationship Id="rId10" Type="http://schemas.openxmlformats.org/officeDocument/2006/relationships/slideLayout" Target="../slideLayouts/slideLayout1425.xml"/><Relationship Id="rId11" Type="http://schemas.openxmlformats.org/officeDocument/2006/relationships/slideLayout" Target="../slideLayouts/slideLayout1426.xml"/><Relationship Id="rId12" Type="http://schemas.openxmlformats.org/officeDocument/2006/relationships/slideLayout" Target="../slideLayouts/slideLayout1427.xml"/><Relationship Id="rId13" Type="http://schemas.openxmlformats.org/officeDocument/2006/relationships/slideLayout" Target="../slideLayouts/slideLayout1428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20.xml.rels><?xml version="1.0" encoding="UTF-8"?>
<Relationships xmlns="http://schemas.openxmlformats.org/package/2006/relationships"><Relationship Id="rId1" Type="http://schemas.openxmlformats.org/officeDocument/2006/relationships/theme" Target="../theme/theme120.xml"/><Relationship Id="rId2" Type="http://schemas.openxmlformats.org/officeDocument/2006/relationships/slideLayout" Target="../slideLayouts/slideLayout1429.xml"/><Relationship Id="rId3" Type="http://schemas.openxmlformats.org/officeDocument/2006/relationships/slideLayout" Target="../slideLayouts/slideLayout1430.xml"/><Relationship Id="rId4" Type="http://schemas.openxmlformats.org/officeDocument/2006/relationships/slideLayout" Target="../slideLayouts/slideLayout1431.xml"/><Relationship Id="rId5" Type="http://schemas.openxmlformats.org/officeDocument/2006/relationships/slideLayout" Target="../slideLayouts/slideLayout1432.xml"/><Relationship Id="rId6" Type="http://schemas.openxmlformats.org/officeDocument/2006/relationships/slideLayout" Target="../slideLayouts/slideLayout1433.xml"/><Relationship Id="rId7" Type="http://schemas.openxmlformats.org/officeDocument/2006/relationships/slideLayout" Target="../slideLayouts/slideLayout1434.xml"/><Relationship Id="rId8" Type="http://schemas.openxmlformats.org/officeDocument/2006/relationships/slideLayout" Target="../slideLayouts/slideLayout1435.xml"/><Relationship Id="rId9" Type="http://schemas.openxmlformats.org/officeDocument/2006/relationships/slideLayout" Target="../slideLayouts/slideLayout1436.xml"/><Relationship Id="rId10" Type="http://schemas.openxmlformats.org/officeDocument/2006/relationships/slideLayout" Target="../slideLayouts/slideLayout1437.xml"/><Relationship Id="rId11" Type="http://schemas.openxmlformats.org/officeDocument/2006/relationships/slideLayout" Target="../slideLayouts/slideLayout1438.xml"/><Relationship Id="rId12" Type="http://schemas.openxmlformats.org/officeDocument/2006/relationships/slideLayout" Target="../slideLayouts/slideLayout1439.xml"/><Relationship Id="rId13" Type="http://schemas.openxmlformats.org/officeDocument/2006/relationships/slideLayout" Target="../slideLayouts/slideLayout1440.xml"/>
</Relationships>
</file>

<file path=ppt/slideMasters/_rels/slideMaster121.xml.rels><?xml version="1.0" encoding="UTF-8"?>
<Relationships xmlns="http://schemas.openxmlformats.org/package/2006/relationships"><Relationship Id="rId1" Type="http://schemas.openxmlformats.org/officeDocument/2006/relationships/theme" Target="../theme/theme121.xml"/><Relationship Id="rId2" Type="http://schemas.openxmlformats.org/officeDocument/2006/relationships/slideLayout" Target="../slideLayouts/slideLayout1441.xml"/><Relationship Id="rId3" Type="http://schemas.openxmlformats.org/officeDocument/2006/relationships/slideLayout" Target="../slideLayouts/slideLayout1442.xml"/><Relationship Id="rId4" Type="http://schemas.openxmlformats.org/officeDocument/2006/relationships/slideLayout" Target="../slideLayouts/slideLayout1443.xml"/><Relationship Id="rId5" Type="http://schemas.openxmlformats.org/officeDocument/2006/relationships/slideLayout" Target="../slideLayouts/slideLayout1444.xml"/><Relationship Id="rId6" Type="http://schemas.openxmlformats.org/officeDocument/2006/relationships/slideLayout" Target="../slideLayouts/slideLayout1445.xml"/><Relationship Id="rId7" Type="http://schemas.openxmlformats.org/officeDocument/2006/relationships/slideLayout" Target="../slideLayouts/slideLayout1446.xml"/><Relationship Id="rId8" Type="http://schemas.openxmlformats.org/officeDocument/2006/relationships/slideLayout" Target="../slideLayouts/slideLayout1447.xml"/><Relationship Id="rId9" Type="http://schemas.openxmlformats.org/officeDocument/2006/relationships/slideLayout" Target="../slideLayouts/slideLayout1448.xml"/><Relationship Id="rId10" Type="http://schemas.openxmlformats.org/officeDocument/2006/relationships/slideLayout" Target="../slideLayouts/slideLayout1449.xml"/><Relationship Id="rId11" Type="http://schemas.openxmlformats.org/officeDocument/2006/relationships/slideLayout" Target="../slideLayouts/slideLayout1450.xml"/><Relationship Id="rId12" Type="http://schemas.openxmlformats.org/officeDocument/2006/relationships/slideLayout" Target="../slideLayouts/slideLayout1451.xml"/><Relationship Id="rId13" Type="http://schemas.openxmlformats.org/officeDocument/2006/relationships/slideLayout" Target="../slideLayouts/slideLayout1452.xml"/>
</Relationships>
</file>

<file path=ppt/slideMasters/_rels/slideMaster122.xml.rels><?xml version="1.0" encoding="UTF-8"?>
<Relationships xmlns="http://schemas.openxmlformats.org/package/2006/relationships"><Relationship Id="rId1" Type="http://schemas.openxmlformats.org/officeDocument/2006/relationships/theme" Target="../theme/theme122.xml"/><Relationship Id="rId2" Type="http://schemas.openxmlformats.org/officeDocument/2006/relationships/slideLayout" Target="../slideLayouts/slideLayout1453.xml"/><Relationship Id="rId3" Type="http://schemas.openxmlformats.org/officeDocument/2006/relationships/slideLayout" Target="../slideLayouts/slideLayout1454.xml"/><Relationship Id="rId4" Type="http://schemas.openxmlformats.org/officeDocument/2006/relationships/slideLayout" Target="../slideLayouts/slideLayout1455.xml"/><Relationship Id="rId5" Type="http://schemas.openxmlformats.org/officeDocument/2006/relationships/slideLayout" Target="../slideLayouts/slideLayout1456.xml"/><Relationship Id="rId6" Type="http://schemas.openxmlformats.org/officeDocument/2006/relationships/slideLayout" Target="../slideLayouts/slideLayout1457.xml"/><Relationship Id="rId7" Type="http://schemas.openxmlformats.org/officeDocument/2006/relationships/slideLayout" Target="../slideLayouts/slideLayout1458.xml"/><Relationship Id="rId8" Type="http://schemas.openxmlformats.org/officeDocument/2006/relationships/slideLayout" Target="../slideLayouts/slideLayout1459.xml"/><Relationship Id="rId9" Type="http://schemas.openxmlformats.org/officeDocument/2006/relationships/slideLayout" Target="../slideLayouts/slideLayout1460.xml"/><Relationship Id="rId10" Type="http://schemas.openxmlformats.org/officeDocument/2006/relationships/slideLayout" Target="../slideLayouts/slideLayout1461.xml"/><Relationship Id="rId11" Type="http://schemas.openxmlformats.org/officeDocument/2006/relationships/slideLayout" Target="../slideLayouts/slideLayout1462.xml"/><Relationship Id="rId12" Type="http://schemas.openxmlformats.org/officeDocument/2006/relationships/slideLayout" Target="../slideLayouts/slideLayout1463.xml"/><Relationship Id="rId13" Type="http://schemas.openxmlformats.org/officeDocument/2006/relationships/slideLayout" Target="../slideLayouts/slideLayout146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slideLayout" Target="../slideLayouts/slideLayout1141.xml"/><Relationship Id="rId3" Type="http://schemas.openxmlformats.org/officeDocument/2006/relationships/slideLayout" Target="../slideLayouts/slideLayout1142.xml"/><Relationship Id="rId4" Type="http://schemas.openxmlformats.org/officeDocument/2006/relationships/slideLayout" Target="../slideLayouts/slideLayout1143.xml"/><Relationship Id="rId5" Type="http://schemas.openxmlformats.org/officeDocument/2006/relationships/slideLayout" Target="../slideLayouts/slideLayout1144.xml"/><Relationship Id="rId6" Type="http://schemas.openxmlformats.org/officeDocument/2006/relationships/slideLayout" Target="../slideLayouts/slideLayout1145.xml"/><Relationship Id="rId7" Type="http://schemas.openxmlformats.org/officeDocument/2006/relationships/slideLayout" Target="../slideLayouts/slideLayout1146.xml"/><Relationship Id="rId8" Type="http://schemas.openxmlformats.org/officeDocument/2006/relationships/slideLayout" Target="../slideLayouts/slideLayout1147.xml"/><Relationship Id="rId9" Type="http://schemas.openxmlformats.org/officeDocument/2006/relationships/slideLayout" Target="../slideLayouts/slideLayout1148.xml"/><Relationship Id="rId10" Type="http://schemas.openxmlformats.org/officeDocument/2006/relationships/slideLayout" Target="../slideLayouts/slideLayout1149.xml"/><Relationship Id="rId11" Type="http://schemas.openxmlformats.org/officeDocument/2006/relationships/slideLayout" Target="../slideLayouts/slideLayout1150.xml"/><Relationship Id="rId12" Type="http://schemas.openxmlformats.org/officeDocument/2006/relationships/slideLayout" Target="../slideLayouts/slideLayout1151.xml"/><Relationship Id="rId13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slideLayout" Target="../slideLayouts/slideLayout1153.xml"/><Relationship Id="rId3" Type="http://schemas.openxmlformats.org/officeDocument/2006/relationships/slideLayout" Target="../slideLayouts/slideLayout1154.xml"/><Relationship Id="rId4" Type="http://schemas.openxmlformats.org/officeDocument/2006/relationships/slideLayout" Target="../slideLayouts/slideLayout1155.xml"/><Relationship Id="rId5" Type="http://schemas.openxmlformats.org/officeDocument/2006/relationships/slideLayout" Target="../slideLayouts/slideLayout1156.xml"/><Relationship Id="rId6" Type="http://schemas.openxmlformats.org/officeDocument/2006/relationships/slideLayout" Target="../slideLayouts/slideLayout1157.xml"/><Relationship Id="rId7" Type="http://schemas.openxmlformats.org/officeDocument/2006/relationships/slideLayout" Target="../slideLayouts/slideLayout1158.xml"/><Relationship Id="rId8" Type="http://schemas.openxmlformats.org/officeDocument/2006/relationships/slideLayout" Target="../slideLayouts/slideLayout1159.xml"/><Relationship Id="rId9" Type="http://schemas.openxmlformats.org/officeDocument/2006/relationships/slideLayout" Target="../slideLayouts/slideLayout1160.xml"/><Relationship Id="rId10" Type="http://schemas.openxmlformats.org/officeDocument/2006/relationships/slideLayout" Target="../slideLayouts/slideLayout1161.xml"/><Relationship Id="rId11" Type="http://schemas.openxmlformats.org/officeDocument/2006/relationships/slideLayout" Target="../slideLayouts/slideLayout1162.xml"/><Relationship Id="rId12" Type="http://schemas.openxmlformats.org/officeDocument/2006/relationships/slideLayout" Target="../slideLayouts/slideLayout1163.xml"/><Relationship Id="rId13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slideLayout" Target="../slideLayouts/slideLayout1165.xml"/><Relationship Id="rId3" Type="http://schemas.openxmlformats.org/officeDocument/2006/relationships/slideLayout" Target="../slideLayouts/slideLayout1166.xml"/><Relationship Id="rId4" Type="http://schemas.openxmlformats.org/officeDocument/2006/relationships/slideLayout" Target="../slideLayouts/slideLayout1167.xml"/><Relationship Id="rId5" Type="http://schemas.openxmlformats.org/officeDocument/2006/relationships/slideLayout" Target="../slideLayouts/slideLayout1168.xml"/><Relationship Id="rId6" Type="http://schemas.openxmlformats.org/officeDocument/2006/relationships/slideLayout" Target="../slideLayouts/slideLayout1169.xml"/><Relationship Id="rId7" Type="http://schemas.openxmlformats.org/officeDocument/2006/relationships/slideLayout" Target="../slideLayouts/slideLayout1170.xml"/><Relationship Id="rId8" Type="http://schemas.openxmlformats.org/officeDocument/2006/relationships/slideLayout" Target="../slideLayouts/slideLayout1171.xml"/><Relationship Id="rId9" Type="http://schemas.openxmlformats.org/officeDocument/2006/relationships/slideLayout" Target="../slideLayouts/slideLayout1172.xml"/><Relationship Id="rId10" Type="http://schemas.openxmlformats.org/officeDocument/2006/relationships/slideLayout" Target="../slideLayouts/slideLayout1173.xml"/><Relationship Id="rId11" Type="http://schemas.openxmlformats.org/officeDocument/2006/relationships/slideLayout" Target="../slideLayouts/slideLayout1174.xml"/><Relationship Id="rId12" Type="http://schemas.openxmlformats.org/officeDocument/2006/relationships/slideLayout" Target="../slideLayouts/slideLayout1175.xml"/><Relationship Id="rId13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slideLayout" Target="../slideLayouts/slideLayout1177.xml"/><Relationship Id="rId3" Type="http://schemas.openxmlformats.org/officeDocument/2006/relationships/slideLayout" Target="../slideLayouts/slideLayout1178.xml"/><Relationship Id="rId4" Type="http://schemas.openxmlformats.org/officeDocument/2006/relationships/slideLayout" Target="../slideLayouts/slideLayout1179.xml"/><Relationship Id="rId5" Type="http://schemas.openxmlformats.org/officeDocument/2006/relationships/slideLayout" Target="../slideLayouts/slideLayout1180.xml"/><Relationship Id="rId6" Type="http://schemas.openxmlformats.org/officeDocument/2006/relationships/slideLayout" Target="../slideLayouts/slideLayout1181.xml"/><Relationship Id="rId7" Type="http://schemas.openxmlformats.org/officeDocument/2006/relationships/slideLayout" Target="../slideLayouts/slideLayout1182.xml"/><Relationship Id="rId8" Type="http://schemas.openxmlformats.org/officeDocument/2006/relationships/slideLayout" Target="../slideLayouts/slideLayout1183.xml"/><Relationship Id="rId9" Type="http://schemas.openxmlformats.org/officeDocument/2006/relationships/slideLayout" Target="../slideLayouts/slideLayout1184.xml"/><Relationship Id="rId10" Type="http://schemas.openxmlformats.org/officeDocument/2006/relationships/slideLayout" Target="../slideLayouts/slideLayout1185.xml"/><Relationship Id="rId11" Type="http://schemas.openxmlformats.org/officeDocument/2006/relationships/slideLayout" Target="../slideLayouts/slideLayout1186.xml"/><Relationship Id="rId12" Type="http://schemas.openxmlformats.org/officeDocument/2006/relationships/slideLayout" Target="../slideLayouts/slideLayout1187.xml"/><Relationship Id="rId13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80EA-3029-43DE-BFF0-FCC8D7522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BF2D-CDF8-4363-802D-0E973686A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80" name="PlaceHolder 3"/>
          <p:cNvSpPr>
            <a:spLocks noGrp="1"/>
          </p:cNvSpPr>
          <p:nvPr>
            <p:ph type="dt" idx="2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4"/>
          <p:cNvSpPr>
            <a:spLocks noGrp="1"/>
          </p:cNvSpPr>
          <p:nvPr>
            <p:ph type="ftr" idx="2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5"/>
          <p:cNvSpPr>
            <a:spLocks noGrp="1"/>
          </p:cNvSpPr>
          <p:nvPr>
            <p:ph type="sldNum" idx="2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1229-637B-494F-A2FB-9B6E833C6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2"/>
    <p:sldLayoutId id="2147484937" r:id="rId3"/>
    <p:sldLayoutId id="2147484938" r:id="rId4"/>
    <p:sldLayoutId id="2147484939" r:id="rId5"/>
    <p:sldLayoutId id="2147484940" r:id="rId6"/>
    <p:sldLayoutId id="2147484941" r:id="rId7"/>
    <p:sldLayoutId id="2147484942" r:id="rId8"/>
    <p:sldLayoutId id="2147484943" r:id="rId9"/>
    <p:sldLayoutId id="2147484944" r:id="rId10"/>
    <p:sldLayoutId id="2147484945" r:id="rId11"/>
    <p:sldLayoutId id="2147484946" r:id="rId12"/>
    <p:sldLayoutId id="2147484947" r:id="rId13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2"/>
    <p:sldLayoutId id="2147484950" r:id="rId3"/>
    <p:sldLayoutId id="2147484951" r:id="rId4"/>
    <p:sldLayoutId id="2147484952" r:id="rId5"/>
    <p:sldLayoutId id="2147484953" r:id="rId6"/>
    <p:sldLayoutId id="2147484954" r:id="rId7"/>
    <p:sldLayoutId id="2147484955" r:id="rId8"/>
    <p:sldLayoutId id="2147484956" r:id="rId9"/>
    <p:sldLayoutId id="2147484957" r:id="rId10"/>
    <p:sldLayoutId id="2147484958" r:id="rId11"/>
    <p:sldLayoutId id="2147484959" r:id="rId12"/>
    <p:sldLayoutId id="2147484960" r:id="rId13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 type="dt" idx="2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PlaceHolder 4"/>
          <p:cNvSpPr>
            <a:spLocks noGrp="1"/>
          </p:cNvSpPr>
          <p:nvPr>
            <p:ph type="ftr" idx="2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5"/>
          <p:cNvSpPr>
            <a:spLocks noGrp="1"/>
          </p:cNvSpPr>
          <p:nvPr>
            <p:ph type="sldNum" idx="2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98CA-94B6-42A7-9E8E-792AAAF7C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2"/>
    <p:sldLayoutId id="2147484963" r:id="rId3"/>
    <p:sldLayoutId id="2147484964" r:id="rId4"/>
    <p:sldLayoutId id="2147484965" r:id="rId5"/>
    <p:sldLayoutId id="2147484966" r:id="rId6"/>
    <p:sldLayoutId id="2147484967" r:id="rId7"/>
    <p:sldLayoutId id="2147484968" r:id="rId8"/>
    <p:sldLayoutId id="2147484969" r:id="rId9"/>
    <p:sldLayoutId id="2147484970" r:id="rId10"/>
    <p:sldLayoutId id="2147484971" r:id="rId11"/>
    <p:sldLayoutId id="2147484972" r:id="rId12"/>
    <p:sldLayoutId id="2147484973" r:id="rId13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 type="dt" idx="2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PlaceHolder 4"/>
          <p:cNvSpPr>
            <a:spLocks noGrp="1"/>
          </p:cNvSpPr>
          <p:nvPr>
            <p:ph type="ftr" idx="2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5"/>
          <p:cNvSpPr>
            <a:spLocks noGrp="1"/>
          </p:cNvSpPr>
          <p:nvPr>
            <p:ph type="sldNum" idx="2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C8B0-AB55-4C8C-880F-4F8FE5B8E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2"/>
    <p:sldLayoutId id="2147484976" r:id="rId3"/>
    <p:sldLayoutId id="2147484977" r:id="rId4"/>
    <p:sldLayoutId id="2147484978" r:id="rId5"/>
    <p:sldLayoutId id="2147484979" r:id="rId6"/>
    <p:sldLayoutId id="2147484980" r:id="rId7"/>
    <p:sldLayoutId id="2147484981" r:id="rId8"/>
    <p:sldLayoutId id="2147484982" r:id="rId9"/>
    <p:sldLayoutId id="2147484983" r:id="rId10"/>
    <p:sldLayoutId id="2147484984" r:id="rId11"/>
    <p:sldLayoutId id="2147484985" r:id="rId12"/>
    <p:sldLayoutId id="2147484986" r:id="rId13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 type="dt" idx="2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PlaceHolder 4"/>
          <p:cNvSpPr>
            <a:spLocks noGrp="1"/>
          </p:cNvSpPr>
          <p:nvPr>
            <p:ph type="ftr" idx="2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5"/>
          <p:cNvSpPr>
            <a:spLocks noGrp="1"/>
          </p:cNvSpPr>
          <p:nvPr>
            <p:ph type="sldNum" idx="2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C9F6-CB3B-4407-B4F1-7C38090E9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2"/>
    <p:sldLayoutId id="2147484989" r:id="rId3"/>
    <p:sldLayoutId id="2147484990" r:id="rId4"/>
    <p:sldLayoutId id="2147484991" r:id="rId5"/>
    <p:sldLayoutId id="2147484992" r:id="rId6"/>
    <p:sldLayoutId id="2147484993" r:id="rId7"/>
    <p:sldLayoutId id="2147484994" r:id="rId8"/>
    <p:sldLayoutId id="2147484995" r:id="rId9"/>
    <p:sldLayoutId id="2147484996" r:id="rId10"/>
    <p:sldLayoutId id="2147484997" r:id="rId11"/>
    <p:sldLayoutId id="2147484998" r:id="rId12"/>
    <p:sldLayoutId id="2147484999" r:id="rId13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 type="dt" idx="2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PlaceHolder 4"/>
          <p:cNvSpPr>
            <a:spLocks noGrp="1"/>
          </p:cNvSpPr>
          <p:nvPr>
            <p:ph type="ftr" idx="2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5"/>
          <p:cNvSpPr>
            <a:spLocks noGrp="1"/>
          </p:cNvSpPr>
          <p:nvPr>
            <p:ph type="sldNum" idx="2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3AB9-D464-4269-A334-47D060723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2"/>
    <p:sldLayoutId id="2147485002" r:id="rId3"/>
    <p:sldLayoutId id="2147485003" r:id="rId4"/>
    <p:sldLayoutId id="2147485004" r:id="rId5"/>
    <p:sldLayoutId id="2147485005" r:id="rId6"/>
    <p:sldLayoutId id="2147485006" r:id="rId7"/>
    <p:sldLayoutId id="2147485007" r:id="rId8"/>
    <p:sldLayoutId id="2147485008" r:id="rId9"/>
    <p:sldLayoutId id="2147485009" r:id="rId10"/>
    <p:sldLayoutId id="2147485010" r:id="rId11"/>
    <p:sldLayoutId id="2147485011" r:id="rId12"/>
    <p:sldLayoutId id="2147485012" r:id="rId13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 type="dt" idx="2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4"/>
          <p:cNvSpPr>
            <a:spLocks noGrp="1"/>
          </p:cNvSpPr>
          <p:nvPr>
            <p:ph type="ftr" idx="2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5"/>
          <p:cNvSpPr>
            <a:spLocks noGrp="1"/>
          </p:cNvSpPr>
          <p:nvPr>
            <p:ph type="sldNum" idx="2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222F-E24C-4258-A294-E95944C99C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2"/>
    <p:sldLayoutId id="2147485015" r:id="rId3"/>
    <p:sldLayoutId id="2147485016" r:id="rId4"/>
    <p:sldLayoutId id="2147485017" r:id="rId5"/>
    <p:sldLayoutId id="2147485018" r:id="rId6"/>
    <p:sldLayoutId id="2147485019" r:id="rId7"/>
    <p:sldLayoutId id="2147485020" r:id="rId8"/>
    <p:sldLayoutId id="2147485021" r:id="rId9"/>
    <p:sldLayoutId id="2147485022" r:id="rId10"/>
    <p:sldLayoutId id="2147485023" r:id="rId11"/>
    <p:sldLayoutId id="2147485024" r:id="rId12"/>
    <p:sldLayoutId id="2147485025" r:id="rId13"/>
  </p:sldLayoutIdLst>
</p:sldMaster>
</file>

<file path=ppt/slideMasters/slideMaster10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372" name="PlaceHolder 3"/>
          <p:cNvSpPr>
            <a:spLocks noGrp="1"/>
          </p:cNvSpPr>
          <p:nvPr>
            <p:ph type="dt" idx="2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PlaceHolder 4"/>
          <p:cNvSpPr>
            <a:spLocks noGrp="1"/>
          </p:cNvSpPr>
          <p:nvPr>
            <p:ph type="ftr" idx="2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PlaceHolder 5"/>
          <p:cNvSpPr>
            <a:spLocks noGrp="1"/>
          </p:cNvSpPr>
          <p:nvPr>
            <p:ph type="sldNum" idx="2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0C74-C4AB-4EFD-AB1A-A989FF346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27" r:id="rId2"/>
    <p:sldLayoutId id="2147485028" r:id="rId3"/>
    <p:sldLayoutId id="2147485029" r:id="rId4"/>
    <p:sldLayoutId id="2147485030" r:id="rId5"/>
    <p:sldLayoutId id="2147485031" r:id="rId6"/>
    <p:sldLayoutId id="2147485032" r:id="rId7"/>
    <p:sldLayoutId id="2147485033" r:id="rId8"/>
    <p:sldLayoutId id="2147485034" r:id="rId9"/>
    <p:sldLayoutId id="2147485035" r:id="rId10"/>
    <p:sldLayoutId id="2147485036" r:id="rId11"/>
    <p:sldLayoutId id="2147485037" r:id="rId12"/>
    <p:sldLayoutId id="2147485038" r:id="rId13"/>
  </p:sldLayoutIdLst>
</p:sldMaster>
</file>

<file path=ppt/slideMasters/slideMaster10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13" name="PlaceHolder 3"/>
          <p:cNvSpPr>
            <a:spLocks noGrp="1"/>
          </p:cNvSpPr>
          <p:nvPr>
            <p:ph type="dt" idx="2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PlaceHolder 4"/>
          <p:cNvSpPr>
            <a:spLocks noGrp="1"/>
          </p:cNvSpPr>
          <p:nvPr>
            <p:ph type="ftr" idx="2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PlaceHolder 5"/>
          <p:cNvSpPr>
            <a:spLocks noGrp="1"/>
          </p:cNvSpPr>
          <p:nvPr>
            <p:ph type="sldNum" idx="2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ADA4-B451-4A25-905E-50F746AEB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40" r:id="rId2"/>
    <p:sldLayoutId id="2147485041" r:id="rId3"/>
    <p:sldLayoutId id="2147485042" r:id="rId4"/>
    <p:sldLayoutId id="2147485043" r:id="rId5"/>
    <p:sldLayoutId id="2147485044" r:id="rId6"/>
    <p:sldLayoutId id="2147485045" r:id="rId7"/>
    <p:sldLayoutId id="2147485046" r:id="rId8"/>
    <p:sldLayoutId id="2147485047" r:id="rId9"/>
    <p:sldLayoutId id="2147485048" r:id="rId10"/>
    <p:sldLayoutId id="2147485049" r:id="rId11"/>
    <p:sldLayoutId id="2147485050" r:id="rId12"/>
    <p:sldLayoutId id="2147485051" r:id="rId13"/>
  </p:sldLayoutIdLst>
</p:sldMaster>
</file>

<file path=ppt/slideMasters/slideMaster10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54" name="PlaceHolder 3"/>
          <p:cNvSpPr>
            <a:spLocks noGrp="1"/>
          </p:cNvSpPr>
          <p:nvPr>
            <p:ph type="dt" idx="2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PlaceHolder 4"/>
          <p:cNvSpPr>
            <a:spLocks noGrp="1"/>
          </p:cNvSpPr>
          <p:nvPr>
            <p:ph type="ftr" idx="2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PlaceHolder 5"/>
          <p:cNvSpPr>
            <a:spLocks noGrp="1"/>
          </p:cNvSpPr>
          <p:nvPr>
            <p:ph type="sldNum" idx="2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C880-DD14-4B2D-B1AC-39D8D1FD5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53" r:id="rId2"/>
    <p:sldLayoutId id="2147485054" r:id="rId3"/>
    <p:sldLayoutId id="2147485055" r:id="rId4"/>
    <p:sldLayoutId id="2147485056" r:id="rId5"/>
    <p:sldLayoutId id="2147485057" r:id="rId6"/>
    <p:sldLayoutId id="2147485058" r:id="rId7"/>
    <p:sldLayoutId id="2147485059" r:id="rId8"/>
    <p:sldLayoutId id="2147485060" r:id="rId9"/>
    <p:sldLayoutId id="2147485061" r:id="rId10"/>
    <p:sldLayoutId id="2147485062" r:id="rId11"/>
    <p:sldLayoutId id="2147485063" r:id="rId12"/>
    <p:sldLayoutId id="2147485064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5101-A9D5-4D3C-A4D3-D7379C445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95" name="PlaceHolder 3"/>
          <p:cNvSpPr>
            <a:spLocks noGrp="1"/>
          </p:cNvSpPr>
          <p:nvPr>
            <p:ph type="dt" idx="2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PlaceHolder 4"/>
          <p:cNvSpPr>
            <a:spLocks noGrp="1"/>
          </p:cNvSpPr>
          <p:nvPr>
            <p:ph type="ftr" idx="2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PlaceHolder 5"/>
          <p:cNvSpPr>
            <a:spLocks noGrp="1"/>
          </p:cNvSpPr>
          <p:nvPr>
            <p:ph type="sldNum" idx="2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391-08EF-4D42-89BE-AF8A24CB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66" r:id="rId2"/>
    <p:sldLayoutId id="2147485067" r:id="rId3"/>
    <p:sldLayoutId id="2147485068" r:id="rId4"/>
    <p:sldLayoutId id="2147485069" r:id="rId5"/>
    <p:sldLayoutId id="2147485070" r:id="rId6"/>
    <p:sldLayoutId id="2147485071" r:id="rId7"/>
    <p:sldLayoutId id="2147485072" r:id="rId8"/>
    <p:sldLayoutId id="2147485073" r:id="rId9"/>
    <p:sldLayoutId id="2147485074" r:id="rId10"/>
    <p:sldLayoutId id="2147485075" r:id="rId11"/>
    <p:sldLayoutId id="2147485076" r:id="rId12"/>
    <p:sldLayoutId id="2147485077" r:id="rId13"/>
  </p:sldLayoutIdLst>
</p:sldMaster>
</file>

<file path=ppt/slideMasters/slideMaster1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36" name="PlaceHolder 3"/>
          <p:cNvSpPr>
            <a:spLocks noGrp="1"/>
          </p:cNvSpPr>
          <p:nvPr>
            <p:ph type="dt" idx="2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PlaceHolder 4"/>
          <p:cNvSpPr>
            <a:spLocks noGrp="1"/>
          </p:cNvSpPr>
          <p:nvPr>
            <p:ph type="ftr" idx="2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PlaceHolder 5"/>
          <p:cNvSpPr>
            <a:spLocks noGrp="1"/>
          </p:cNvSpPr>
          <p:nvPr>
            <p:ph type="sldNum" idx="2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87D0-A8EB-47EB-9F42-423186905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79" r:id="rId2"/>
    <p:sldLayoutId id="2147485080" r:id="rId3"/>
    <p:sldLayoutId id="2147485081" r:id="rId4"/>
    <p:sldLayoutId id="2147485082" r:id="rId5"/>
    <p:sldLayoutId id="2147485083" r:id="rId6"/>
    <p:sldLayoutId id="2147485084" r:id="rId7"/>
    <p:sldLayoutId id="2147485085" r:id="rId8"/>
    <p:sldLayoutId id="2147485086" r:id="rId9"/>
    <p:sldLayoutId id="2147485087" r:id="rId10"/>
    <p:sldLayoutId id="2147485088" r:id="rId11"/>
    <p:sldLayoutId id="2147485089" r:id="rId12"/>
    <p:sldLayoutId id="2147485090" r:id="rId13"/>
  </p:sldLayoutIdLst>
</p:sldMaster>
</file>

<file path=ppt/slideMasters/slideMaster1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92" r:id="rId2"/>
    <p:sldLayoutId id="2147485093" r:id="rId3"/>
    <p:sldLayoutId id="2147485094" r:id="rId4"/>
    <p:sldLayoutId id="2147485095" r:id="rId5"/>
    <p:sldLayoutId id="2147485096" r:id="rId6"/>
    <p:sldLayoutId id="2147485097" r:id="rId7"/>
    <p:sldLayoutId id="2147485098" r:id="rId8"/>
    <p:sldLayoutId id="2147485099" r:id="rId9"/>
    <p:sldLayoutId id="2147485100" r:id="rId10"/>
    <p:sldLayoutId id="2147485101" r:id="rId11"/>
    <p:sldLayoutId id="2147485102" r:id="rId12"/>
    <p:sldLayoutId id="2147485103" r:id="rId13"/>
  </p:sldLayoutIdLst>
</p:sldMaster>
</file>

<file path=ppt/slideMasters/slideMaster1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23" name="PlaceHolder 3"/>
          <p:cNvSpPr>
            <a:spLocks noGrp="1"/>
          </p:cNvSpPr>
          <p:nvPr>
            <p:ph type="dt" idx="2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PlaceHolder 4"/>
          <p:cNvSpPr>
            <a:spLocks noGrp="1"/>
          </p:cNvSpPr>
          <p:nvPr>
            <p:ph type="ftr" idx="2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PlaceHolder 5"/>
          <p:cNvSpPr>
            <a:spLocks noGrp="1"/>
          </p:cNvSpPr>
          <p:nvPr>
            <p:ph type="sldNum" idx="2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1A74-A700-4F94-A099-D595045F4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05" r:id="rId2"/>
    <p:sldLayoutId id="2147485106" r:id="rId3"/>
    <p:sldLayoutId id="2147485107" r:id="rId4"/>
    <p:sldLayoutId id="2147485108" r:id="rId5"/>
    <p:sldLayoutId id="2147485109" r:id="rId6"/>
    <p:sldLayoutId id="2147485110" r:id="rId7"/>
    <p:sldLayoutId id="2147485111" r:id="rId8"/>
    <p:sldLayoutId id="2147485112" r:id="rId9"/>
    <p:sldLayoutId id="2147485113" r:id="rId10"/>
    <p:sldLayoutId id="2147485114" r:id="rId11"/>
    <p:sldLayoutId id="2147485115" r:id="rId12"/>
    <p:sldLayoutId id="2147485116" r:id="rId13"/>
  </p:sldLayoutIdLst>
</p:sldMaster>
</file>

<file path=ppt/slideMasters/slideMaster1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664" name="PlaceHolder 3"/>
          <p:cNvSpPr>
            <a:spLocks noGrp="1"/>
          </p:cNvSpPr>
          <p:nvPr>
            <p:ph type="dt" idx="2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PlaceHolder 4"/>
          <p:cNvSpPr>
            <a:spLocks noGrp="1"/>
          </p:cNvSpPr>
          <p:nvPr>
            <p:ph type="ftr" idx="2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PlaceHolder 5"/>
          <p:cNvSpPr>
            <a:spLocks noGrp="1"/>
          </p:cNvSpPr>
          <p:nvPr>
            <p:ph type="sldNum" idx="2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5E3D-D159-4C66-AA5E-74227E2B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18" r:id="rId2"/>
    <p:sldLayoutId id="2147485119" r:id="rId3"/>
    <p:sldLayoutId id="2147485120" r:id="rId4"/>
    <p:sldLayoutId id="2147485121" r:id="rId5"/>
    <p:sldLayoutId id="2147485122" r:id="rId6"/>
    <p:sldLayoutId id="2147485123" r:id="rId7"/>
    <p:sldLayoutId id="2147485124" r:id="rId8"/>
    <p:sldLayoutId id="2147485125" r:id="rId9"/>
    <p:sldLayoutId id="2147485126" r:id="rId10"/>
    <p:sldLayoutId id="2147485127" r:id="rId11"/>
    <p:sldLayoutId id="2147485128" r:id="rId12"/>
    <p:sldLayoutId id="2147485129" r:id="rId13"/>
  </p:sldLayoutIdLst>
</p:sldMaster>
</file>

<file path=ppt/slideMasters/slideMaster1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05" name="PlaceHolder 3"/>
          <p:cNvSpPr>
            <a:spLocks noGrp="1"/>
          </p:cNvSpPr>
          <p:nvPr>
            <p:ph type="dt" idx="2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PlaceHolder 4"/>
          <p:cNvSpPr>
            <a:spLocks noGrp="1"/>
          </p:cNvSpPr>
          <p:nvPr>
            <p:ph type="ftr" idx="2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PlaceHolder 5"/>
          <p:cNvSpPr>
            <a:spLocks noGrp="1"/>
          </p:cNvSpPr>
          <p:nvPr>
            <p:ph type="sldNum" idx="2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5024-605C-4DF6-99A4-1893D55C3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31" r:id="rId2"/>
    <p:sldLayoutId id="2147485132" r:id="rId3"/>
    <p:sldLayoutId id="2147485133" r:id="rId4"/>
    <p:sldLayoutId id="2147485134" r:id="rId5"/>
    <p:sldLayoutId id="2147485135" r:id="rId6"/>
    <p:sldLayoutId id="2147485136" r:id="rId7"/>
    <p:sldLayoutId id="2147485137" r:id="rId8"/>
    <p:sldLayoutId id="2147485138" r:id="rId9"/>
    <p:sldLayoutId id="2147485139" r:id="rId10"/>
    <p:sldLayoutId id="2147485140" r:id="rId11"/>
    <p:sldLayoutId id="2147485141" r:id="rId12"/>
    <p:sldLayoutId id="2147485142" r:id="rId13"/>
  </p:sldLayoutIdLst>
</p:sldMaster>
</file>

<file path=ppt/slideMasters/slideMaster1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46" name="PlaceHolder 3"/>
          <p:cNvSpPr>
            <a:spLocks noGrp="1"/>
          </p:cNvSpPr>
          <p:nvPr>
            <p:ph type="dt" idx="2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PlaceHolder 4"/>
          <p:cNvSpPr>
            <a:spLocks noGrp="1"/>
          </p:cNvSpPr>
          <p:nvPr>
            <p:ph type="ftr" idx="2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PlaceHolder 5"/>
          <p:cNvSpPr>
            <a:spLocks noGrp="1"/>
          </p:cNvSpPr>
          <p:nvPr>
            <p:ph type="sldNum" idx="2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F097-45FC-40D9-AC4B-A20BEC21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44" r:id="rId2"/>
    <p:sldLayoutId id="2147485145" r:id="rId3"/>
    <p:sldLayoutId id="2147485146" r:id="rId4"/>
    <p:sldLayoutId id="2147485147" r:id="rId5"/>
    <p:sldLayoutId id="2147485148" r:id="rId6"/>
    <p:sldLayoutId id="2147485149" r:id="rId7"/>
    <p:sldLayoutId id="2147485150" r:id="rId8"/>
    <p:sldLayoutId id="2147485151" r:id="rId9"/>
    <p:sldLayoutId id="2147485152" r:id="rId10"/>
    <p:sldLayoutId id="2147485153" r:id="rId11"/>
    <p:sldLayoutId id="2147485154" r:id="rId12"/>
    <p:sldLayoutId id="2147485155" r:id="rId13"/>
  </p:sldLayoutIdLst>
</p:sldMaster>
</file>

<file path=ppt/slideMasters/slideMaster1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787" name="PlaceHolder 3"/>
          <p:cNvSpPr>
            <a:spLocks noGrp="1"/>
          </p:cNvSpPr>
          <p:nvPr>
            <p:ph type="dt" idx="2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PlaceHolder 4"/>
          <p:cNvSpPr>
            <a:spLocks noGrp="1"/>
          </p:cNvSpPr>
          <p:nvPr>
            <p:ph type="ftr" idx="2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PlaceHolder 5"/>
          <p:cNvSpPr>
            <a:spLocks noGrp="1"/>
          </p:cNvSpPr>
          <p:nvPr>
            <p:ph type="sldNum" idx="2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D37E-713E-48A1-9260-EDB8E1C1C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57" r:id="rId2"/>
    <p:sldLayoutId id="2147485158" r:id="rId3"/>
    <p:sldLayoutId id="2147485159" r:id="rId4"/>
    <p:sldLayoutId id="2147485160" r:id="rId5"/>
    <p:sldLayoutId id="2147485161" r:id="rId6"/>
    <p:sldLayoutId id="2147485162" r:id="rId7"/>
    <p:sldLayoutId id="2147485163" r:id="rId8"/>
    <p:sldLayoutId id="2147485164" r:id="rId9"/>
    <p:sldLayoutId id="2147485165" r:id="rId10"/>
    <p:sldLayoutId id="2147485166" r:id="rId11"/>
    <p:sldLayoutId id="2147485167" r:id="rId12"/>
    <p:sldLayoutId id="2147485168" r:id="rId13"/>
  </p:sldLayoutIdLst>
</p:sldMaster>
</file>

<file path=ppt/slideMasters/slideMaster1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28" name="PlaceHolder 3"/>
          <p:cNvSpPr>
            <a:spLocks noGrp="1"/>
          </p:cNvSpPr>
          <p:nvPr>
            <p:ph type="dt" idx="3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PlaceHolder 4"/>
          <p:cNvSpPr>
            <a:spLocks noGrp="1"/>
          </p:cNvSpPr>
          <p:nvPr>
            <p:ph type="ftr" idx="3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PlaceHolder 5"/>
          <p:cNvSpPr>
            <a:spLocks noGrp="1"/>
          </p:cNvSpPr>
          <p:nvPr>
            <p:ph type="sldNum" idx="3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D887-6AB8-457C-9E38-F08AA8E63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70" r:id="rId2"/>
    <p:sldLayoutId id="2147485171" r:id="rId3"/>
    <p:sldLayoutId id="2147485172" r:id="rId4"/>
    <p:sldLayoutId id="2147485173" r:id="rId5"/>
    <p:sldLayoutId id="2147485174" r:id="rId6"/>
    <p:sldLayoutId id="2147485175" r:id="rId7"/>
    <p:sldLayoutId id="2147485176" r:id="rId8"/>
    <p:sldLayoutId id="2147485177" r:id="rId9"/>
    <p:sldLayoutId id="2147485178" r:id="rId10"/>
    <p:sldLayoutId id="2147485179" r:id="rId11"/>
    <p:sldLayoutId id="2147485180" r:id="rId12"/>
    <p:sldLayoutId id="2147485181" r:id="rId13"/>
  </p:sldLayoutIdLst>
</p:sldMaster>
</file>

<file path=ppt/slideMasters/slideMaster1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869" name="PlaceHolder 3"/>
          <p:cNvSpPr>
            <a:spLocks noGrp="1"/>
          </p:cNvSpPr>
          <p:nvPr>
            <p:ph type="dt" idx="3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PlaceHolder 4"/>
          <p:cNvSpPr>
            <a:spLocks noGrp="1"/>
          </p:cNvSpPr>
          <p:nvPr>
            <p:ph type="ftr" idx="3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PlaceHolder 5"/>
          <p:cNvSpPr>
            <a:spLocks noGrp="1"/>
          </p:cNvSpPr>
          <p:nvPr>
            <p:ph type="sldNum" idx="3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B3C5-0502-4468-A755-7D6AEC5AC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83" r:id="rId2"/>
    <p:sldLayoutId id="2147485184" r:id="rId3"/>
    <p:sldLayoutId id="2147485185" r:id="rId4"/>
    <p:sldLayoutId id="2147485186" r:id="rId5"/>
    <p:sldLayoutId id="2147485187" r:id="rId6"/>
    <p:sldLayoutId id="2147485188" r:id="rId7"/>
    <p:sldLayoutId id="2147485189" r:id="rId8"/>
    <p:sldLayoutId id="2147485190" r:id="rId9"/>
    <p:sldLayoutId id="2147485191" r:id="rId10"/>
    <p:sldLayoutId id="2147485192" r:id="rId11"/>
    <p:sldLayoutId id="2147485193" r:id="rId12"/>
    <p:sldLayoutId id="2147485194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10" name="PlaceHolder 3"/>
          <p:cNvSpPr>
            <a:spLocks noGrp="1"/>
          </p:cNvSpPr>
          <p:nvPr>
            <p:ph type="dt" idx="3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1" name="PlaceHolder 4"/>
          <p:cNvSpPr>
            <a:spLocks noGrp="1"/>
          </p:cNvSpPr>
          <p:nvPr>
            <p:ph type="ftr" idx="3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2" name="PlaceHolder 5"/>
          <p:cNvSpPr>
            <a:spLocks noGrp="1"/>
          </p:cNvSpPr>
          <p:nvPr>
            <p:ph type="sldNum" idx="3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90B4-9B82-494B-A180-F0B97BDB9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196" r:id="rId2"/>
    <p:sldLayoutId id="2147485197" r:id="rId3"/>
    <p:sldLayoutId id="2147485198" r:id="rId4"/>
    <p:sldLayoutId id="2147485199" r:id="rId5"/>
    <p:sldLayoutId id="2147485200" r:id="rId6"/>
    <p:sldLayoutId id="2147485201" r:id="rId7"/>
    <p:sldLayoutId id="2147485202" r:id="rId8"/>
    <p:sldLayoutId id="2147485203" r:id="rId9"/>
    <p:sldLayoutId id="2147485204" r:id="rId10"/>
    <p:sldLayoutId id="2147485205" r:id="rId11"/>
    <p:sldLayoutId id="2147485206" r:id="rId12"/>
    <p:sldLayoutId id="2147485207" r:id="rId13"/>
  </p:sldLayoutIdLst>
</p:sldMaster>
</file>

<file path=ppt/slideMasters/slideMaster1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51" name="PlaceHolder 3"/>
          <p:cNvSpPr>
            <a:spLocks noGrp="1"/>
          </p:cNvSpPr>
          <p:nvPr>
            <p:ph type="dt" idx="3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2" name="PlaceHolder 4"/>
          <p:cNvSpPr>
            <a:spLocks noGrp="1"/>
          </p:cNvSpPr>
          <p:nvPr>
            <p:ph type="ftr" idx="3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3" name="PlaceHolder 5"/>
          <p:cNvSpPr>
            <a:spLocks noGrp="1"/>
          </p:cNvSpPr>
          <p:nvPr>
            <p:ph type="sldNum" idx="3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F207-2E83-4C8B-BCC2-AA3657B44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09" r:id="rId2"/>
    <p:sldLayoutId id="2147485210" r:id="rId3"/>
    <p:sldLayoutId id="2147485211" r:id="rId4"/>
    <p:sldLayoutId id="2147485212" r:id="rId5"/>
    <p:sldLayoutId id="2147485213" r:id="rId6"/>
    <p:sldLayoutId id="2147485214" r:id="rId7"/>
    <p:sldLayoutId id="2147485215" r:id="rId8"/>
    <p:sldLayoutId id="2147485216" r:id="rId9"/>
    <p:sldLayoutId id="2147485217" r:id="rId10"/>
    <p:sldLayoutId id="2147485218" r:id="rId11"/>
    <p:sldLayoutId id="2147485219" r:id="rId12"/>
    <p:sldLayoutId id="2147485220" r:id="rId13"/>
  </p:sldLayoutIdLst>
</p:sldMaster>
</file>

<file path=ppt/slideMasters/slideMaster1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992" name="PlaceHolder 3"/>
          <p:cNvSpPr>
            <a:spLocks noGrp="1"/>
          </p:cNvSpPr>
          <p:nvPr>
            <p:ph type="dt" idx="3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3" name="PlaceHolder 4"/>
          <p:cNvSpPr>
            <a:spLocks noGrp="1"/>
          </p:cNvSpPr>
          <p:nvPr>
            <p:ph type="ftr" idx="3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4" name="PlaceHolder 5"/>
          <p:cNvSpPr>
            <a:spLocks noGrp="1"/>
          </p:cNvSpPr>
          <p:nvPr>
            <p:ph type="sldNum" idx="3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BBE3-A409-4E8C-8D19-540EE480F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222" r:id="rId2"/>
    <p:sldLayoutId id="2147485223" r:id="rId3"/>
    <p:sldLayoutId id="2147485224" r:id="rId4"/>
    <p:sldLayoutId id="2147485225" r:id="rId5"/>
    <p:sldLayoutId id="2147485226" r:id="rId6"/>
    <p:sldLayoutId id="2147485227" r:id="rId7"/>
    <p:sldLayoutId id="2147485228" r:id="rId8"/>
    <p:sldLayoutId id="2147485229" r:id="rId9"/>
    <p:sldLayoutId id="2147485230" r:id="rId10"/>
    <p:sldLayoutId id="2147485231" r:id="rId11"/>
    <p:sldLayoutId id="2147485232" r:id="rId12"/>
    <p:sldLayoutId id="214748523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B2F7-63D2-4A48-BBBD-46FFFAF5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C097-F804-4AB0-83A0-C47CFA645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742F-2AC7-4180-9700-2F1C51537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 type="sldNum" idx="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FA69-7103-4191-99F3-DE4ACC922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dt" idx="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ftr" idx="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sldNum" idx="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C29-F873-4149-81A6-9214D1F26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77D7-07A6-44DA-89A5-0DBBE436A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44D4-9F5F-4702-AD5D-11FFD7211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271A-74B7-49B7-A2B2-8ECA54666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 type="dt" idx="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 type="ftr" idx="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 type="sldNum" idx="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9E29-901A-459A-BFCD-D709191F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 type="dt" idx="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 type="ftr" idx="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 type="sldNum" idx="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059B-2DB4-430D-8615-65CD0E292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BF26-A4CF-402E-8910-13BD966EA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6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 type="ftr" idx="6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ftr" idx="6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 type="ftr" idx="6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6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ftr" idx="6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ftr" idx="6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6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ftr" idx="7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ftr" idx="7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5F2D-61AE-45DD-8690-7F82BDDF853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AE9-9622-43D1-B352-88D04A3702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 type="dt" idx="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89BD-0D26-47F3-A493-16D4DD8EB77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 type="ftr" idx="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5"/>
          <p:cNvSpPr>
            <a:spLocks noGrp="1"/>
          </p:cNvSpPr>
          <p:nvPr>
            <p:ph type="sldNum" idx="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F104-40A0-4B67-9A26-18667B29A6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CEA5-ED5E-4ABD-AA3C-D0E321C2745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5F72-F765-4CA6-8774-7665CF7FE8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D27-D180-4CF6-9632-42F8827DB61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F117-CD80-4ACC-B949-ACED94D0BF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947F-8DC0-4A6E-BD7E-4B6DE997CDA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6A9B-06A0-4C74-873C-16A52DC7E0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FEFD-859C-4BFC-85B5-33E3E726EE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63EE-448E-4E31-848A-DEEF179A3E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996D-F980-4C87-A63F-F3FE87C5E92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5AC0-05EF-460B-9620-844A22CA417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F458-DAC3-4103-BA76-3699A04E8A7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3C26-8F7B-4DA5-B1B2-036B4B4CD2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 type="dt" idx="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C978-D0D1-4C95-8D4D-CCE7AC614F2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 type="ftr" idx="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5"/>
          <p:cNvSpPr>
            <a:spLocks noGrp="1"/>
          </p:cNvSpPr>
          <p:nvPr>
            <p:ph type="sldNum" idx="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C004-1D5D-4812-B08D-805549B19C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 type="dt" idx="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E549-BA8D-4893-9F1D-A781E08A8C2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 type="ftr" idx="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 type="sldNum" idx="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A04E-86DA-40B1-A6D8-D7CC417D04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 type="dt" idx="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8A29-AF0A-429A-902F-F78A41AFB20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 type="ftr" idx="1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 type="sldNum" idx="1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E864-2C57-4088-AF28-F8F3571497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 type="dt" idx="1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4A4C-B49B-4177-BD09-36807E67989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 type="ftr" idx="1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 type="sldNum" idx="1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C282-C4CD-4AA8-9F01-D6BD83AFD59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0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0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0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BED3-9003-45F9-8485-CB661275E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 type="dt" idx="10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 type="ftr" idx="10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 type="sldNum" idx="1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26BE-C174-49D3-AD5F-C1B9C03C1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 type="dt" idx="1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4"/>
          <p:cNvSpPr>
            <a:spLocks noGrp="1"/>
          </p:cNvSpPr>
          <p:nvPr>
            <p:ph type="ftr" idx="1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5"/>
          <p:cNvSpPr>
            <a:spLocks noGrp="1"/>
          </p:cNvSpPr>
          <p:nvPr>
            <p:ph type="sldNum" idx="1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44C1-DB3F-4F28-9D29-5AD1D493F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28E-FBDD-4F71-B7E0-6E9041BD6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dt" idx="1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4"/>
          <p:cNvSpPr>
            <a:spLocks noGrp="1"/>
          </p:cNvSpPr>
          <p:nvPr>
            <p:ph type="ftr" idx="1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5"/>
          <p:cNvSpPr>
            <a:spLocks noGrp="1"/>
          </p:cNvSpPr>
          <p:nvPr>
            <p:ph type="sldNum" idx="1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8170-C522-4C13-87FE-DC57E8C38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 type="dt" idx="1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 type="ftr" idx="1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 type="sldNum" idx="1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3743-1588-40BD-B15C-7C416C1EA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092" name="PlaceHolder 3"/>
          <p:cNvSpPr>
            <a:spLocks noGrp="1"/>
          </p:cNvSpPr>
          <p:nvPr>
            <p:ph type="dt" idx="1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4"/>
          <p:cNvSpPr>
            <a:spLocks noGrp="1"/>
          </p:cNvSpPr>
          <p:nvPr>
            <p:ph type="ftr" idx="1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5"/>
          <p:cNvSpPr>
            <a:spLocks noGrp="1"/>
          </p:cNvSpPr>
          <p:nvPr>
            <p:ph type="sldNum" idx="1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CBCB-3C1D-4422-B32E-FCC5C1623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 type="dt" idx="1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4"/>
          <p:cNvSpPr>
            <a:spLocks noGrp="1"/>
          </p:cNvSpPr>
          <p:nvPr>
            <p:ph type="ftr" idx="1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5"/>
          <p:cNvSpPr>
            <a:spLocks noGrp="1"/>
          </p:cNvSpPr>
          <p:nvPr>
            <p:ph type="sldNum" idx="1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80ED-D650-47C7-8F9E-F68567081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 type="dt" idx="1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 type="ftr" idx="1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5"/>
          <p:cNvSpPr>
            <a:spLocks noGrp="1"/>
          </p:cNvSpPr>
          <p:nvPr>
            <p:ph type="sldNum" idx="1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AF80-FA22-454B-B66B-91B8C03EA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1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1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1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D8F8-09B8-48C5-B889-078433705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 type="dt" idx="1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 type="ftr" idx="1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5"/>
          <p:cNvSpPr>
            <a:spLocks noGrp="1"/>
          </p:cNvSpPr>
          <p:nvPr>
            <p:ph type="sldNum" idx="1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D359-F079-4F93-8A7D-7C6158E38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43" name="PlaceHolder 3"/>
          <p:cNvSpPr>
            <a:spLocks noGrp="1"/>
          </p:cNvSpPr>
          <p:nvPr>
            <p:ph type="dt" idx="1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4"/>
          <p:cNvSpPr>
            <a:spLocks noGrp="1"/>
          </p:cNvSpPr>
          <p:nvPr>
            <p:ph type="ftr" idx="1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5"/>
          <p:cNvSpPr>
            <a:spLocks noGrp="1"/>
          </p:cNvSpPr>
          <p:nvPr>
            <p:ph type="sldNum" idx="1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C067-3084-400B-B42B-AB136B5FB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384" name="PlaceHolder 3"/>
          <p:cNvSpPr>
            <a:spLocks noGrp="1"/>
          </p:cNvSpPr>
          <p:nvPr>
            <p:ph type="dt" idx="13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4"/>
          <p:cNvSpPr>
            <a:spLocks noGrp="1"/>
          </p:cNvSpPr>
          <p:nvPr>
            <p:ph type="ftr" idx="1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5"/>
          <p:cNvSpPr>
            <a:spLocks noGrp="1"/>
          </p:cNvSpPr>
          <p:nvPr>
            <p:ph type="sldNum" idx="14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6631-7514-42FB-B1B9-394D5D6B0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0817-50CF-4CAC-AD4C-022539B97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 type="dt" idx="14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4"/>
          <p:cNvSpPr>
            <a:spLocks noGrp="1"/>
          </p:cNvSpPr>
          <p:nvPr>
            <p:ph type="ftr" idx="1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5"/>
          <p:cNvSpPr>
            <a:spLocks noGrp="1"/>
          </p:cNvSpPr>
          <p:nvPr>
            <p:ph type="sldNum" idx="14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14E1-776D-41D9-8D2C-8286584BC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 type="dt" idx="14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 type="ftr" idx="14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5"/>
          <p:cNvSpPr>
            <a:spLocks noGrp="1"/>
          </p:cNvSpPr>
          <p:nvPr>
            <p:ph type="sldNum" idx="14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008-72E8-4F66-91CC-62B603831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 type="dt" idx="14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 type="ftr" idx="14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5"/>
          <p:cNvSpPr>
            <a:spLocks noGrp="1"/>
          </p:cNvSpPr>
          <p:nvPr>
            <p:ph type="sldNum" idx="14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689F-D008-4848-9D53-85EA9AAE9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8" name="PlaceHolder 3"/>
          <p:cNvSpPr>
            <a:spLocks noGrp="1"/>
          </p:cNvSpPr>
          <p:nvPr>
            <p:ph type="dt" idx="15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4"/>
          <p:cNvSpPr>
            <a:spLocks noGrp="1"/>
          </p:cNvSpPr>
          <p:nvPr>
            <p:ph type="ftr" idx="15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5"/>
          <p:cNvSpPr>
            <a:spLocks noGrp="1"/>
          </p:cNvSpPr>
          <p:nvPr>
            <p:ph type="sldNum" idx="15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0C6C-D2D1-4A95-AEE8-694D2043F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 type="dt" idx="15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 type="ftr" idx="15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 type="sldNum" idx="15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D9D6-51AE-4258-B623-AA5A51B75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30" name="PlaceHolder 3"/>
          <p:cNvSpPr>
            <a:spLocks noGrp="1"/>
          </p:cNvSpPr>
          <p:nvPr>
            <p:ph type="dt" idx="15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4"/>
          <p:cNvSpPr>
            <a:spLocks noGrp="1"/>
          </p:cNvSpPr>
          <p:nvPr>
            <p:ph type="ftr" idx="15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5"/>
          <p:cNvSpPr>
            <a:spLocks noGrp="1"/>
          </p:cNvSpPr>
          <p:nvPr>
            <p:ph type="sldNum" idx="15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3BF5-FB95-4EC1-B153-25C638EA5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5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6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6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73AD-2396-4062-912B-7D932C625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12" name="PlaceHolder 3"/>
          <p:cNvSpPr>
            <a:spLocks noGrp="1"/>
          </p:cNvSpPr>
          <p:nvPr>
            <p:ph type="dt" idx="16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PlaceHolder 4"/>
          <p:cNvSpPr>
            <a:spLocks noGrp="1"/>
          </p:cNvSpPr>
          <p:nvPr>
            <p:ph type="ftr" idx="16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5"/>
          <p:cNvSpPr>
            <a:spLocks noGrp="1"/>
          </p:cNvSpPr>
          <p:nvPr>
            <p:ph type="sldNum" idx="16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23A-E85C-4DCA-9CB3-C435F4823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1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C02E-24EF-4434-85B1-71983012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07ED-4491-433D-94A1-00A2C232E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40" name="PlaceHolder 3"/>
          <p:cNvSpPr>
            <a:spLocks noGrp="1"/>
          </p:cNvSpPr>
          <p:nvPr>
            <p:ph type="dt" idx="16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4"/>
          <p:cNvSpPr>
            <a:spLocks noGrp="1"/>
          </p:cNvSpPr>
          <p:nvPr>
            <p:ph type="ftr" idx="16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5"/>
          <p:cNvSpPr>
            <a:spLocks noGrp="1"/>
          </p:cNvSpPr>
          <p:nvPr>
            <p:ph type="sldNum" idx="17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FC9-4CA9-43F8-B9C4-B2D5B68B0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881" name="PlaceHolder 3"/>
          <p:cNvSpPr>
            <a:spLocks noGrp="1"/>
          </p:cNvSpPr>
          <p:nvPr>
            <p:ph type="dt" idx="17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4"/>
          <p:cNvSpPr>
            <a:spLocks noGrp="1"/>
          </p:cNvSpPr>
          <p:nvPr>
            <p:ph type="ftr" idx="17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5"/>
          <p:cNvSpPr>
            <a:spLocks noGrp="1"/>
          </p:cNvSpPr>
          <p:nvPr>
            <p:ph type="sldNum" idx="17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17F6-007D-436C-A091-7EA8BE86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22" name="PlaceHolder 3"/>
          <p:cNvSpPr>
            <a:spLocks noGrp="1"/>
          </p:cNvSpPr>
          <p:nvPr>
            <p:ph type="dt" idx="17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4"/>
          <p:cNvSpPr>
            <a:spLocks noGrp="1"/>
          </p:cNvSpPr>
          <p:nvPr>
            <p:ph type="ftr" idx="17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5"/>
          <p:cNvSpPr>
            <a:spLocks noGrp="1"/>
          </p:cNvSpPr>
          <p:nvPr>
            <p:ph type="sldNum" idx="17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9925-F98D-4F01-8C0B-2DD60A01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 type="dt" idx="17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 type="ftr" idx="17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 type="sldNum" idx="17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C429-011C-4DA3-A884-C87EAB05A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04" name="PlaceHolder 3"/>
          <p:cNvSpPr>
            <a:spLocks noGrp="1"/>
          </p:cNvSpPr>
          <p:nvPr>
            <p:ph type="dt" idx="18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PlaceHolder 4"/>
          <p:cNvSpPr>
            <a:spLocks noGrp="1"/>
          </p:cNvSpPr>
          <p:nvPr>
            <p:ph type="ftr" idx="18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5"/>
          <p:cNvSpPr>
            <a:spLocks noGrp="1"/>
          </p:cNvSpPr>
          <p:nvPr>
            <p:ph type="sldNum" idx="18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B778-3EA9-4961-9CBF-90023EC86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45" name="PlaceHolder 3"/>
          <p:cNvSpPr>
            <a:spLocks noGrp="1"/>
          </p:cNvSpPr>
          <p:nvPr>
            <p:ph type="dt" idx="18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PlaceHolder 4"/>
          <p:cNvSpPr>
            <a:spLocks noGrp="1"/>
          </p:cNvSpPr>
          <p:nvPr>
            <p:ph type="ftr" idx="18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5"/>
          <p:cNvSpPr>
            <a:spLocks noGrp="1"/>
          </p:cNvSpPr>
          <p:nvPr>
            <p:ph type="sldNum" idx="18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18E4-BD43-4D7E-A632-AA4D9846C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086" name="PlaceHolder 3"/>
          <p:cNvSpPr>
            <a:spLocks noGrp="1"/>
          </p:cNvSpPr>
          <p:nvPr>
            <p:ph type="dt" idx="18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PlaceHolder 4"/>
          <p:cNvSpPr>
            <a:spLocks noGrp="1"/>
          </p:cNvSpPr>
          <p:nvPr>
            <p:ph type="ftr" idx="18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5"/>
          <p:cNvSpPr>
            <a:spLocks noGrp="1"/>
          </p:cNvSpPr>
          <p:nvPr>
            <p:ph type="sldNum" idx="18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A8B2-A0DD-4011-AD4B-8B0C94B9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27" name="PlaceHolder 3"/>
          <p:cNvSpPr>
            <a:spLocks noGrp="1"/>
          </p:cNvSpPr>
          <p:nvPr>
            <p:ph type="dt" idx="18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PlaceHolder 4"/>
          <p:cNvSpPr>
            <a:spLocks noGrp="1"/>
          </p:cNvSpPr>
          <p:nvPr>
            <p:ph type="ftr" idx="19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5"/>
          <p:cNvSpPr>
            <a:spLocks noGrp="1"/>
          </p:cNvSpPr>
          <p:nvPr>
            <p:ph type="sldNum" idx="19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F9E-45CF-4EB8-8EE9-F22913161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168" name="PlaceHolder 3"/>
          <p:cNvSpPr>
            <a:spLocks noGrp="1"/>
          </p:cNvSpPr>
          <p:nvPr>
            <p:ph type="dt" idx="19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PlaceHolder 4"/>
          <p:cNvSpPr>
            <a:spLocks noGrp="1"/>
          </p:cNvSpPr>
          <p:nvPr>
            <p:ph type="ftr" idx="19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5"/>
          <p:cNvSpPr>
            <a:spLocks noGrp="1"/>
          </p:cNvSpPr>
          <p:nvPr>
            <p:ph type="sldNum" idx="19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9462-50C6-4135-A283-6E51FF6E2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7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AFA4-5053-4536-8AD4-12726346A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55" name="PlaceHolder 3"/>
          <p:cNvSpPr>
            <a:spLocks noGrp="1"/>
          </p:cNvSpPr>
          <p:nvPr>
            <p:ph type="dt" idx="19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4"/>
          <p:cNvSpPr>
            <a:spLocks noGrp="1"/>
          </p:cNvSpPr>
          <p:nvPr>
            <p:ph type="ftr" idx="19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5"/>
          <p:cNvSpPr>
            <a:spLocks noGrp="1"/>
          </p:cNvSpPr>
          <p:nvPr>
            <p:ph type="sldNum" idx="19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561D-3AEC-4B9C-B36B-CFAACE517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296" name="PlaceHolder 3"/>
          <p:cNvSpPr>
            <a:spLocks noGrp="1"/>
          </p:cNvSpPr>
          <p:nvPr>
            <p:ph type="dt" idx="19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4"/>
          <p:cNvSpPr>
            <a:spLocks noGrp="1"/>
          </p:cNvSpPr>
          <p:nvPr>
            <p:ph type="ftr" idx="19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5"/>
          <p:cNvSpPr>
            <a:spLocks noGrp="1"/>
          </p:cNvSpPr>
          <p:nvPr>
            <p:ph type="sldNum" idx="20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BCAC-B337-4D07-8879-95442D714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37" name="PlaceHolder 3"/>
          <p:cNvSpPr>
            <a:spLocks noGrp="1"/>
          </p:cNvSpPr>
          <p:nvPr>
            <p:ph type="dt" idx="20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4"/>
          <p:cNvSpPr>
            <a:spLocks noGrp="1"/>
          </p:cNvSpPr>
          <p:nvPr>
            <p:ph type="ftr" idx="20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5"/>
          <p:cNvSpPr>
            <a:spLocks noGrp="1"/>
          </p:cNvSpPr>
          <p:nvPr>
            <p:ph type="sldNum" idx="20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5D79-F152-426B-ACE7-F139D3CF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78" name="PlaceHolder 3"/>
          <p:cNvSpPr>
            <a:spLocks noGrp="1"/>
          </p:cNvSpPr>
          <p:nvPr>
            <p:ph type="dt" idx="20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4"/>
          <p:cNvSpPr>
            <a:spLocks noGrp="1"/>
          </p:cNvSpPr>
          <p:nvPr>
            <p:ph type="ftr" idx="2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5"/>
          <p:cNvSpPr>
            <a:spLocks noGrp="1"/>
          </p:cNvSpPr>
          <p:nvPr>
            <p:ph type="sldNum" idx="20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837F-F32A-4270-92E5-D2E3356D8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1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19" name="PlaceHolder 3"/>
          <p:cNvSpPr>
            <a:spLocks noGrp="1"/>
          </p:cNvSpPr>
          <p:nvPr>
            <p:ph type="dt" idx="20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4"/>
          <p:cNvSpPr>
            <a:spLocks noGrp="1"/>
          </p:cNvSpPr>
          <p:nvPr>
            <p:ph type="ftr" idx="20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5"/>
          <p:cNvSpPr>
            <a:spLocks noGrp="1"/>
          </p:cNvSpPr>
          <p:nvPr>
            <p:ph type="sldNum" idx="20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9FB8-F355-43C1-AA74-1ED8F8BBC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60" name="PlaceHolder 3"/>
          <p:cNvSpPr>
            <a:spLocks noGrp="1"/>
          </p:cNvSpPr>
          <p:nvPr>
            <p:ph type="dt" idx="2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4"/>
          <p:cNvSpPr>
            <a:spLocks noGrp="1"/>
          </p:cNvSpPr>
          <p:nvPr>
            <p:ph type="ftr" idx="2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5"/>
          <p:cNvSpPr>
            <a:spLocks noGrp="1"/>
          </p:cNvSpPr>
          <p:nvPr>
            <p:ph type="sldNum" idx="2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4708-4A81-45F0-AB92-4C5F0FCB5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01" name="PlaceHolder 3"/>
          <p:cNvSpPr>
            <a:spLocks noGrp="1"/>
          </p:cNvSpPr>
          <p:nvPr>
            <p:ph type="dt" idx="2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4"/>
          <p:cNvSpPr>
            <a:spLocks noGrp="1"/>
          </p:cNvSpPr>
          <p:nvPr>
            <p:ph type="ftr" idx="2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5"/>
          <p:cNvSpPr>
            <a:spLocks noGrp="1"/>
          </p:cNvSpPr>
          <p:nvPr>
            <p:ph type="sldNum" idx="2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EC9-F23F-41E1-B779-97E64E315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42" name="PlaceHolder 3"/>
          <p:cNvSpPr>
            <a:spLocks noGrp="1"/>
          </p:cNvSpPr>
          <p:nvPr>
            <p:ph type="dt" idx="2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4"/>
          <p:cNvSpPr>
            <a:spLocks noGrp="1"/>
          </p:cNvSpPr>
          <p:nvPr>
            <p:ph type="ftr" idx="2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5"/>
          <p:cNvSpPr>
            <a:spLocks noGrp="1"/>
          </p:cNvSpPr>
          <p:nvPr>
            <p:ph type="sldNum" idx="2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0F09-C7E0-4EE4-8BF6-377E0BF7A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583" name="PlaceHolder 3"/>
          <p:cNvSpPr>
            <a:spLocks noGrp="1"/>
          </p:cNvSpPr>
          <p:nvPr>
            <p:ph type="dt" idx="2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4"/>
          <p:cNvSpPr>
            <a:spLocks noGrp="1"/>
          </p:cNvSpPr>
          <p:nvPr>
            <p:ph type="ftr" idx="2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5"/>
          <p:cNvSpPr>
            <a:spLocks noGrp="1"/>
          </p:cNvSpPr>
          <p:nvPr>
            <p:ph type="sldNum" idx="2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7EAE-762F-4E07-B8C8-CA52DDD4C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624" name="PlaceHolder 3"/>
          <p:cNvSpPr>
            <a:spLocks noGrp="1"/>
          </p:cNvSpPr>
          <p:nvPr>
            <p:ph type="dt" idx="2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4"/>
          <p:cNvSpPr>
            <a:spLocks noGrp="1"/>
          </p:cNvSpPr>
          <p:nvPr>
            <p:ph type="ftr" idx="2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5"/>
          <p:cNvSpPr>
            <a:spLocks noGrp="1"/>
          </p:cNvSpPr>
          <p:nvPr>
            <p:ph type="sldNum" idx="2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F1B6-797D-489C-97C1-A93A602D5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38C-0AB4-4F75-B2A9-0F43CB9D5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11" name="PlaceHolder 3"/>
          <p:cNvSpPr>
            <a:spLocks noGrp="1"/>
          </p:cNvSpPr>
          <p:nvPr>
            <p:ph type="dt" idx="2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4"/>
          <p:cNvSpPr>
            <a:spLocks noGrp="1"/>
          </p:cNvSpPr>
          <p:nvPr>
            <p:ph type="ftr" idx="2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5"/>
          <p:cNvSpPr>
            <a:spLocks noGrp="1"/>
          </p:cNvSpPr>
          <p:nvPr>
            <p:ph type="sldNum" idx="2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4386-BB9C-4259-A383-D2A3A084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52" name="PlaceHolder 3"/>
          <p:cNvSpPr>
            <a:spLocks noGrp="1"/>
          </p:cNvSpPr>
          <p:nvPr>
            <p:ph type="dt" idx="2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4"/>
          <p:cNvSpPr>
            <a:spLocks noGrp="1"/>
          </p:cNvSpPr>
          <p:nvPr>
            <p:ph type="ftr" idx="2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5"/>
          <p:cNvSpPr>
            <a:spLocks noGrp="1"/>
          </p:cNvSpPr>
          <p:nvPr>
            <p:ph type="sldNum" idx="2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95DF-2FD6-4ED4-8303-62F6C8DE4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93" name="PlaceHolder 3"/>
          <p:cNvSpPr>
            <a:spLocks noGrp="1"/>
          </p:cNvSpPr>
          <p:nvPr>
            <p:ph type="dt" idx="2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4"/>
          <p:cNvSpPr>
            <a:spLocks noGrp="1"/>
          </p:cNvSpPr>
          <p:nvPr>
            <p:ph type="ftr" idx="2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5"/>
          <p:cNvSpPr>
            <a:spLocks noGrp="1"/>
          </p:cNvSpPr>
          <p:nvPr>
            <p:ph type="sldNum" idx="2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303C-895F-46B9-BE69-DB00273E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34" name="PlaceHolder 3"/>
          <p:cNvSpPr>
            <a:spLocks noGrp="1"/>
          </p:cNvSpPr>
          <p:nvPr>
            <p:ph type="dt" idx="2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4"/>
          <p:cNvSpPr>
            <a:spLocks noGrp="1"/>
          </p:cNvSpPr>
          <p:nvPr>
            <p:ph type="ftr" idx="2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5"/>
          <p:cNvSpPr>
            <a:spLocks noGrp="1"/>
          </p:cNvSpPr>
          <p:nvPr>
            <p:ph type="sldNum" idx="2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E2BA-0AF5-45DA-9A6F-8ECC6E77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875" name="PlaceHolder 3"/>
          <p:cNvSpPr>
            <a:spLocks noGrp="1"/>
          </p:cNvSpPr>
          <p:nvPr>
            <p:ph type="dt" idx="2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4"/>
          <p:cNvSpPr>
            <a:spLocks noGrp="1"/>
          </p:cNvSpPr>
          <p:nvPr>
            <p:ph type="ftr" idx="2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5"/>
          <p:cNvSpPr>
            <a:spLocks noGrp="1"/>
          </p:cNvSpPr>
          <p:nvPr>
            <p:ph type="sldNum" idx="2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2263-B39B-4CDB-A29D-A7694E6CE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16" name="PlaceHolder 3"/>
          <p:cNvSpPr>
            <a:spLocks noGrp="1"/>
          </p:cNvSpPr>
          <p:nvPr>
            <p:ph type="dt" idx="2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4"/>
          <p:cNvSpPr>
            <a:spLocks noGrp="1"/>
          </p:cNvSpPr>
          <p:nvPr>
            <p:ph type="ftr" idx="2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5"/>
          <p:cNvSpPr>
            <a:spLocks noGrp="1"/>
          </p:cNvSpPr>
          <p:nvPr>
            <p:ph type="sldNum" idx="2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8C3-7010-45C2-9B1B-2D5AB5BF2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2"/>
    <p:sldLayoutId id="2147484885" r:id="rId3"/>
    <p:sldLayoutId id="2147484886" r:id="rId4"/>
    <p:sldLayoutId id="2147484887" r:id="rId5"/>
    <p:sldLayoutId id="2147484888" r:id="rId6"/>
    <p:sldLayoutId id="2147484889" r:id="rId7"/>
    <p:sldLayoutId id="2147484890" r:id="rId8"/>
    <p:sldLayoutId id="2147484891" r:id="rId9"/>
    <p:sldLayoutId id="2147484892" r:id="rId10"/>
    <p:sldLayoutId id="2147484893" r:id="rId11"/>
    <p:sldLayoutId id="2147484894" r:id="rId12"/>
    <p:sldLayoutId id="2147484895" r:id="rId13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57" name="PlaceHolder 3"/>
          <p:cNvSpPr>
            <a:spLocks noGrp="1"/>
          </p:cNvSpPr>
          <p:nvPr>
            <p:ph type="dt" idx="2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4"/>
          <p:cNvSpPr>
            <a:spLocks noGrp="1"/>
          </p:cNvSpPr>
          <p:nvPr>
            <p:ph type="ftr" idx="2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5"/>
          <p:cNvSpPr>
            <a:spLocks noGrp="1"/>
          </p:cNvSpPr>
          <p:nvPr>
            <p:ph type="sldNum" idx="2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3CAE-C915-42C9-84DB-215C9AD9A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2"/>
    <p:sldLayoutId id="2147484898" r:id="rId3"/>
    <p:sldLayoutId id="2147484899" r:id="rId4"/>
    <p:sldLayoutId id="2147484900" r:id="rId5"/>
    <p:sldLayoutId id="2147484901" r:id="rId6"/>
    <p:sldLayoutId id="2147484902" r:id="rId7"/>
    <p:sldLayoutId id="2147484903" r:id="rId8"/>
    <p:sldLayoutId id="2147484904" r:id="rId9"/>
    <p:sldLayoutId id="2147484905" r:id="rId10"/>
    <p:sldLayoutId id="2147484906" r:id="rId11"/>
    <p:sldLayoutId id="2147484907" r:id="rId12"/>
    <p:sldLayoutId id="2147484908" r:id="rId13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998" name="PlaceHolder 3"/>
          <p:cNvSpPr>
            <a:spLocks noGrp="1"/>
          </p:cNvSpPr>
          <p:nvPr>
            <p:ph type="dt" idx="2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4"/>
          <p:cNvSpPr>
            <a:spLocks noGrp="1"/>
          </p:cNvSpPr>
          <p:nvPr>
            <p:ph type="ftr" idx="2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5"/>
          <p:cNvSpPr>
            <a:spLocks noGrp="1"/>
          </p:cNvSpPr>
          <p:nvPr>
            <p:ph type="sldNum" idx="2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B05D-4BD3-41D0-BD53-50244E8A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2"/>
    <p:sldLayoutId id="2147484911" r:id="rId3"/>
    <p:sldLayoutId id="2147484912" r:id="rId4"/>
    <p:sldLayoutId id="2147484913" r:id="rId5"/>
    <p:sldLayoutId id="2147484914" r:id="rId6"/>
    <p:sldLayoutId id="2147484915" r:id="rId7"/>
    <p:sldLayoutId id="2147484916" r:id="rId8"/>
    <p:sldLayoutId id="2147484917" r:id="rId9"/>
    <p:sldLayoutId id="2147484918" r:id="rId10"/>
    <p:sldLayoutId id="2147484919" r:id="rId11"/>
    <p:sldLayoutId id="2147484920" r:id="rId12"/>
    <p:sldLayoutId id="2147484921" r:id="rId13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039" name="PlaceHolder 3"/>
          <p:cNvSpPr>
            <a:spLocks noGrp="1"/>
          </p:cNvSpPr>
          <p:nvPr>
            <p:ph type="dt" idx="2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4"/>
          <p:cNvSpPr>
            <a:spLocks noGrp="1"/>
          </p:cNvSpPr>
          <p:nvPr>
            <p:ph type="ftr" idx="2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5"/>
          <p:cNvSpPr>
            <a:spLocks noGrp="1"/>
          </p:cNvSpPr>
          <p:nvPr>
            <p:ph type="sldNum" idx="2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A314-ACDB-417C-A322-F330ABA0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2"/>
    <p:sldLayoutId id="2147484924" r:id="rId3"/>
    <p:sldLayoutId id="2147484925" r:id="rId4"/>
    <p:sldLayoutId id="2147484926" r:id="rId5"/>
    <p:sldLayoutId id="2147484927" r:id="rId6"/>
    <p:sldLayoutId id="2147484928" r:id="rId7"/>
    <p:sldLayoutId id="2147484929" r:id="rId8"/>
    <p:sldLayoutId id="2147484930" r:id="rId9"/>
    <p:sldLayoutId id="2147484931" r:id="rId10"/>
    <p:sldLayoutId id="2147484932" r:id="rId11"/>
    <p:sldLayoutId id="2147484933" r:id="rId12"/>
    <p:sldLayoutId id="214748493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8" name="Rectangle 2"/>
          <p:cNvGrpSpPr/>
          <p:nvPr/>
        </p:nvGrpSpPr>
        <p:grpSpPr>
          <a:xfrm>
            <a:off x="566640" y="36360"/>
            <a:ext cx="7712280" cy="2256120"/>
            <a:chOff x="566640" y="36360"/>
            <a:chExt cx="7712280" cy="2256120"/>
          </a:xfrm>
        </p:grpSpPr>
        <p:pic>
          <p:nvPicPr>
            <p:cNvPr id="503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36360"/>
              <a:ext cx="7712280" cy="22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0" name=""/>
            <p:cNvSpPr/>
            <p:nvPr/>
          </p:nvSpPr>
          <p:spPr>
            <a:xfrm>
              <a:off x="685800" y="228600"/>
              <a:ext cx="74674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00"/>
                  </a:solidFill>
                  <a:latin typeface="Arial"/>
                </a:rPr>
                <a:t>Pregnancy, Placenta, Lactation and Labo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1" name="Picture 10" descr="http://images.wisegeek.com/uterus-depiction-with-fetus.jpg"/>
          <p:cNvPicPr/>
          <p:nvPr/>
        </p:nvPicPr>
        <p:blipFill>
          <a:blip r:embed="rId2"/>
          <a:srcRect l="-134" t="5882" r="3124" b="5882"/>
          <a:stretch/>
        </p:blipFill>
        <p:spPr>
          <a:xfrm>
            <a:off x="1752480" y="243828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4" name="PlaceHolder 1"/>
          <p:cNvSpPr>
            <a:spLocks noGrp="1"/>
          </p:cNvSpPr>
          <p:nvPr>
            <p:ph type="title"/>
          </p:nvPr>
        </p:nvSpPr>
        <p:spPr>
          <a:xfrm>
            <a:off x="1790640" y="-360"/>
            <a:ext cx="5562720" cy="757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5" name="Rectangle 1"/>
          <p:cNvSpPr/>
          <p:nvPr/>
        </p:nvSpPr>
        <p:spPr>
          <a:xfrm>
            <a:off x="304920" y="610200"/>
            <a:ext cx="8534160" cy="61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ahoma"/>
                <a:ea typeface="SimSun"/>
              </a:rPr>
              <a:t>2- Progestero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creted  from Corpus Luteum at 1st Trimester, after that from Place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hibits uterine contractions “Hormone of pregnancy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nd prevents spontaneous abor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imulates  alveolar development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motes formation of mucus plug in cervical canal preventing  uterine contam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creas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cidual rea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617220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7" name="Rectangle 1"/>
          <p:cNvSpPr/>
          <p:nvPr/>
        </p:nvSpPr>
        <p:spPr>
          <a:xfrm>
            <a:off x="304920" y="1120680"/>
            <a:ext cx="853416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3- Human Chorionic Gonadotropin (HCG)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lik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ycoprote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te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 of pregnan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crease its secretion of estrogen and progester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ydi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estes of fetus to secret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oster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ent of testes into scrotum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velop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male sex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detecte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n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days after fertiliz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d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ur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thin 2 wee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sis of pregnanc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8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9" name="Rectangle 1"/>
          <p:cNvSpPr/>
          <p:nvPr/>
        </p:nvSpPr>
        <p:spPr>
          <a:xfrm>
            <a:off x="228600" y="101664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4- Placental Lactogen (Somatomammotropi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ed abou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eek of pregnanc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pus luteum to secrete estrogen &amp; progester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uteotroph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reast developmen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mmotroph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growth and it inhibits glucose transport (inhibits insulin effect) i.e. similar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ho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ahoma"/>
                <a:ea typeface="Tahoma"/>
              </a:rPr>
              <a:t>5- Relax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secreted from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enta and Corpus Lute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vic ligaments to help in process of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retion Rates of Placental Horm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AEA4-57A1-4EDB-B7F7-AADEEA5F25A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2" name="Picture 7" descr="20f30"/>
          <p:cNvPicPr/>
          <p:nvPr/>
        </p:nvPicPr>
        <p:blipFill>
          <a:blip r:embed="rId1"/>
          <a:stretch/>
        </p:blipFill>
        <p:spPr>
          <a:xfrm>
            <a:off x="914400" y="1224000"/>
            <a:ext cx="74674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4" name="Picture 2" descr="D:\my documents\SHERWOOD 7 LECTURES (2010)\Media\Image_Library\chapter20\20t5.jpg"/>
          <p:cNvPicPr/>
          <p:nvPr/>
        </p:nvPicPr>
        <p:blipFill>
          <a:blip r:embed="rId1"/>
          <a:srcRect l="0" t="2135" r="1606" b="2977"/>
          <a:stretch/>
        </p:blipFill>
        <p:spPr>
          <a:xfrm>
            <a:off x="31680" y="228600"/>
            <a:ext cx="8966160" cy="6477120"/>
          </a:xfrm>
          <a:prstGeom prst="rect">
            <a:avLst/>
          </a:prstGeom>
          <a:ln w="0">
            <a:noFill/>
          </a:ln>
        </p:spPr>
      </p:pic>
      <p:sp>
        <p:nvSpPr>
          <p:cNvPr id="50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56D-8E8A-458E-BAF3-9C3C747F6923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6" name="Rectangle 2"/>
          <p:cNvGrpSpPr/>
          <p:nvPr/>
        </p:nvGrpSpPr>
        <p:grpSpPr>
          <a:xfrm>
            <a:off x="792000" y="195120"/>
            <a:ext cx="7712280" cy="1243080"/>
            <a:chOff x="792000" y="195120"/>
            <a:chExt cx="7712280" cy="1243080"/>
          </a:xfrm>
        </p:grpSpPr>
        <p:pic>
          <p:nvPicPr>
            <p:cNvPr id="5077" name="Rectangle 2" descr=""/>
            <p:cNvPicPr/>
            <p:nvPr/>
          </p:nvPicPr>
          <p:blipFill>
            <a:blip r:embed="rId1"/>
            <a:stretch/>
          </p:blipFill>
          <p:spPr>
            <a:xfrm>
              <a:off x="792000" y="195120"/>
              <a:ext cx="771228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8" name=""/>
            <p:cNvSpPr/>
            <p:nvPr/>
          </p:nvSpPr>
          <p:spPr>
            <a:xfrm>
              <a:off x="914400" y="304920"/>
              <a:ext cx="7467480" cy="76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(=PARTURITION)</a:t>
              </a:r>
              <a:br>
                <a:rPr sz="3600"/>
              </a:b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9" name="Rectangle 1"/>
          <p:cNvSpPr/>
          <p:nvPr/>
        </p:nvSpPr>
        <p:spPr>
          <a:xfrm>
            <a:off x="228600" y="1224720"/>
            <a:ext cx="861048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Def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The process by which fetus is delivered from uterus after full term of gestation. About 280 d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(40 week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fter last menstruation preceding concep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Suggested mechanis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1- Role of horm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-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Ratio of estrogens to progester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As  Estroge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Progester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uterine contra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 ↑ Estrogen to Progesterone 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t late pregnancy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oxytocin receptors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initi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 by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0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1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2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3" name="Rectangle 1"/>
          <p:cNvSpPr/>
          <p:nvPr/>
        </p:nvSpPr>
        <p:spPr>
          <a:xfrm>
            <a:off x="304920" y="79956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- Oxytoc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 uterine contr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Uterine muscle response to oxytocin at time of labou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xytocin in hypophysectomized anima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prolonged lab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4" name="Rectangle 2"/>
          <p:cNvSpPr/>
          <p:nvPr/>
        </p:nvSpPr>
        <p:spPr>
          <a:xfrm>
            <a:off x="228600" y="2761200"/>
            <a:ext cx="853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Bookman Old Style"/>
                <a:ea typeface="SimSun"/>
              </a:rPr>
              <a:t>c- Fetal hormon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y contractions of uter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us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pressure is exerted on head of fetus as a stress that stimulates fetal hypothalamus to relea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R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eleas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rom fetal anterior pituit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lucocorticoid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ecreted from adrenal corte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centa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gester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↑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ostaglandi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↑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contracti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5" name="Rectangle 2"/>
          <p:cNvGrpSpPr/>
          <p:nvPr/>
        </p:nvGrpSpPr>
        <p:grpSpPr>
          <a:xfrm>
            <a:off x="2773440" y="103320"/>
            <a:ext cx="3292560" cy="1201680"/>
            <a:chOff x="2773440" y="103320"/>
            <a:chExt cx="3292560" cy="1201680"/>
          </a:xfrm>
        </p:grpSpPr>
        <p:pic>
          <p:nvPicPr>
            <p:cNvPr id="5086" name="Rectangle 2" descr=""/>
            <p:cNvPicPr/>
            <p:nvPr/>
          </p:nvPicPr>
          <p:blipFill>
            <a:blip r:embed="rId1"/>
            <a:stretch/>
          </p:blipFill>
          <p:spPr>
            <a:xfrm>
              <a:off x="2773440" y="103320"/>
              <a:ext cx="32925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7" name=""/>
            <p:cNvSpPr/>
            <p:nvPr/>
          </p:nvSpPr>
          <p:spPr>
            <a:xfrm>
              <a:off x="2895480" y="228600"/>
              <a:ext cx="3048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br>
                <a:rPr sz="4900"/>
              </a:br>
              <a:r>
                <a:rPr b="1" lang="en-US" sz="3600" spc="-1" strike="noStrike">
                  <a:solidFill>
                    <a:srgbClr val="ffff00"/>
                  </a:solidFill>
                  <a:latin typeface="Georgia"/>
                </a:rPr>
                <a:t>LABOUR </a:t>
              </a:r>
              <a:br>
                <a:rPr sz="32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8" name="Rectangle 1"/>
          <p:cNvSpPr/>
          <p:nvPr/>
        </p:nvSpPr>
        <p:spPr>
          <a:xfrm>
            <a:off x="304920" y="1075680"/>
            <a:ext cx="8610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Mechanical factors: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0000ff"/>
                </a:solidFill>
                <a:latin typeface="Arial"/>
                <a:ea typeface="SimSu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uterine contr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Stretch of cervix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ntraction of uter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downward descent of   baby’s head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stretch of cervix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more contrac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(+ve feed back mechanisms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9" name="Rectangle 2"/>
          <p:cNvSpPr/>
          <p:nvPr/>
        </p:nvSpPr>
        <p:spPr>
          <a:xfrm>
            <a:off x="304920" y="3817080"/>
            <a:ext cx="86104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Role of abdominal musc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- During labor, abdominal muscles contract to aid delivery by ↑ intra-abdominal pressure (voluntary or reflexely by impulses from birth canal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0" name="Rectangle 2"/>
          <p:cNvGrpSpPr/>
          <p:nvPr/>
        </p:nvGrpSpPr>
        <p:grpSpPr>
          <a:xfrm>
            <a:off x="676440" y="-146160"/>
            <a:ext cx="8248320" cy="2212920"/>
            <a:chOff x="676440" y="-146160"/>
            <a:chExt cx="8248320" cy="2212920"/>
          </a:xfrm>
        </p:grpSpPr>
        <p:pic>
          <p:nvPicPr>
            <p:cNvPr id="5091" name="Rectangle 2" descr=""/>
            <p:cNvPicPr/>
            <p:nvPr/>
          </p:nvPicPr>
          <p:blipFill>
            <a:blip r:embed="rId1"/>
            <a:stretch/>
          </p:blipFill>
          <p:spPr>
            <a:xfrm>
              <a:off x="676440" y="-146160"/>
              <a:ext cx="824832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2" name=""/>
            <p:cNvSpPr/>
            <p:nvPr/>
          </p:nvSpPr>
          <p:spPr>
            <a:xfrm>
              <a:off x="838080" y="228600"/>
              <a:ext cx="7620120" cy="13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HORMONAL CONTROL OF LACTATION </a:t>
              </a:r>
              <a:br>
                <a:rPr sz="3200"/>
              </a:b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3" name="Rectangle 6"/>
          <p:cNvSpPr/>
          <p:nvPr/>
        </p:nvSpPr>
        <p:spPr>
          <a:xfrm>
            <a:off x="228600" y="1571040"/>
            <a:ext cx="838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tion of milk production (lactogenesis) is under control of anterior pituitar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lactin (LTH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ue milk production is established about two days after delive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nued lactation is dependent on suckling which initia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lk ejection ref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maintains prolactin secre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continued suckling, lactation can go on for years, and during this time, the raised prolactin levels, to some extent, depress ovulation and fert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4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5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6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7" name="Rectangle 1"/>
          <p:cNvSpPr/>
          <p:nvPr/>
        </p:nvSpPr>
        <p:spPr>
          <a:xfrm>
            <a:off x="457200" y="1607400"/>
            <a:ext cx="82296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1- Estr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olifera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system and nipp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increas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lood flow to breast. It is responsible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gmentation of areo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2- Progester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formation of mammary gl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cini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2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5043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4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5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fine Fertilization and impl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placental horm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the hormones affecting mammary 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fy the role of prolactin in lac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Mention  the causes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Gynaecomast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mechanism of lab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8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099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0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1" name="Rectangle 1"/>
          <p:cNvSpPr/>
          <p:nvPr/>
        </p:nvSpPr>
        <p:spPr>
          <a:xfrm>
            <a:off x="533520" y="160416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3- Prolact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creted by anterior pituitary and placen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timulates formation and secretion of milk by aci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4- Placental Lactoge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timulates breast developm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2" name="Rectangle 2"/>
          <p:cNvGrpSpPr/>
          <p:nvPr/>
        </p:nvGrpSpPr>
        <p:grpSpPr>
          <a:xfrm>
            <a:off x="719280" y="92160"/>
            <a:ext cx="7864200" cy="1888920"/>
            <a:chOff x="719280" y="92160"/>
            <a:chExt cx="7864200" cy="1888920"/>
          </a:xfrm>
        </p:grpSpPr>
        <p:pic>
          <p:nvPicPr>
            <p:cNvPr id="5103" name="Rectangle 2" descr=""/>
            <p:cNvPicPr/>
            <p:nvPr/>
          </p:nvPicPr>
          <p:blipFill>
            <a:blip r:embed="rId1"/>
            <a:stretch/>
          </p:blipFill>
          <p:spPr>
            <a:xfrm>
              <a:off x="719280" y="92160"/>
              <a:ext cx="7864200" cy="18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4" name=""/>
            <p:cNvSpPr/>
            <p:nvPr/>
          </p:nvSpPr>
          <p:spPr>
            <a:xfrm>
              <a:off x="838080" y="228600"/>
              <a:ext cx="762012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HORMONAL CONTROL </a:t>
              </a:r>
              <a:br>
                <a:rPr sz="4000"/>
              </a:br>
              <a:r>
                <a:rPr b="1" lang="en-US" sz="4000" spc="-1" strike="noStrike">
                  <a:solidFill>
                    <a:srgbClr val="ffff00"/>
                  </a:solidFill>
                  <a:latin typeface="Georgia"/>
                </a:rPr>
                <a:t>OF LACTATION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5" name="Rectangle 1"/>
          <p:cNvSpPr/>
          <p:nvPr/>
        </p:nvSpPr>
        <p:spPr>
          <a:xfrm>
            <a:off x="380880" y="1698480"/>
            <a:ext cx="8534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5- Oxytoc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It squeezes milk from acini (=milk ejecti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6- Adrenal corticoids, insulin &amp; Thyroxin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eded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ctivities of the gland, no specific role in mil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7- Growth hormone: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Necessary for mammary gland development in response to other horm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6" name="Rectangle 2"/>
          <p:cNvGrpSpPr/>
          <p:nvPr/>
        </p:nvGrpSpPr>
        <p:grpSpPr>
          <a:xfrm>
            <a:off x="1481040" y="-42840"/>
            <a:ext cx="6340680" cy="1311120"/>
            <a:chOff x="1481040" y="-42840"/>
            <a:chExt cx="6340680" cy="1311120"/>
          </a:xfrm>
        </p:grpSpPr>
        <p:pic>
          <p:nvPicPr>
            <p:cNvPr id="5107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42840"/>
              <a:ext cx="63406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8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9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ffff00"/>
                  </a:solidFill>
                  <a:latin typeface="Bookman Old Style"/>
                  <a:ea typeface="SimSun"/>
                </a:rPr>
                <a:t>GYNAECOMASTIA </a:t>
              </a:r>
              <a:br>
                <a:rPr sz="32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9" name="Rectangle 1"/>
          <p:cNvSpPr/>
          <p:nvPr/>
        </p:nvSpPr>
        <p:spPr>
          <a:xfrm>
            <a:off x="152280" y="1387800"/>
            <a:ext cx="8763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eminine enlargement of breast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m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</a:rPr>
              <a:t>At Puberty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(physiological)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oys develop a tender subareolar plaque (1-2 cm) which shrinks slowly and never persists for more than few years (Unknown cau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ff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SimSun"/>
              </a:rPr>
              <a:t>Adult (pathological):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rimary testicul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-Li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ronchogenic carcinoma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Endocrine dis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0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11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  <a:ea typeface="Arial"/>
              </a:rPr>
              <a:t>Fertiliz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l site of fertilization is the ampulla of oviduct at the upper  one third of ovidu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Must occur within 24 hours after ov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Viability of ovum is 24 h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perms usually survive about 48 hours but can survive up to 5 days in female reproductive tr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perm deposited in vagina travel through cervical canal, uterus, and to upper one third of ovidu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F92B-99DA-4442-9AA9-2507AC702254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9" name="Picture 2" descr="D:\my documents\SHERWOOD 7 LECTURES (2010)\Media\Image_Library\chapter20\20f25.jpg"/>
          <p:cNvPicPr/>
          <p:nvPr/>
        </p:nvPicPr>
        <p:blipFill>
          <a:blip r:embed="rId1"/>
          <a:srcRect l="0" t="0" r="0" b="3160"/>
          <a:stretch/>
        </p:blipFill>
        <p:spPr>
          <a:xfrm>
            <a:off x="152280" y="152280"/>
            <a:ext cx="8763120" cy="6553440"/>
          </a:xfrm>
          <a:prstGeom prst="rect">
            <a:avLst/>
          </a:prstGeom>
          <a:ln w="0">
            <a:noFill/>
          </a:ln>
        </p:spPr>
      </p:pic>
      <p:sp>
        <p:nvSpPr>
          <p:cNvPr id="50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B79-C49E-46AA-85EE-6C41607B5C5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PlaceHolder 1"/>
          <p:cNvSpPr>
            <a:spLocks noGrp="1"/>
          </p:cNvSpPr>
          <p:nvPr>
            <p:ph type="title"/>
          </p:nvPr>
        </p:nvSpPr>
        <p:spPr>
          <a:xfrm>
            <a:off x="3504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Fertiliza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2" name="PlaceHolder 1"/>
          <p:cNvSpPr>
            <a:spLocks noGrp="1"/>
          </p:cNvSpPr>
          <p:nvPr>
            <p:ph type="title"/>
          </p:nvPr>
        </p:nvSpPr>
        <p:spPr>
          <a:xfrm>
            <a:off x="304560" y="-92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haroni"/>
                <a:ea typeface="Arial"/>
              </a:rPr>
              <a:t>Fertilization &amp; Implantation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3" name=""/>
          <p:cNvSpPr txBox="1"/>
          <p:nvPr/>
        </p:nvSpPr>
        <p:spPr>
          <a:xfrm>
            <a:off x="152280" y="914400"/>
            <a:ext cx="87631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Fertilized ovum (zygote) having 46 chromosomes divides mitotically. Within a week, zygote grows and differentiates into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blastocyst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capable of implant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stocyst implants in the posterior  wall of uterus on 6-7 th day after fertiliz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he blastocyst has inner cell mass that becomes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embry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 and outer cellular layer,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Trophoblast (= fetal portion of placenta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Arial"/>
              </a:rPr>
              <a:t>At site of implantation, Endometrium transforms in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ecidual layer (= maternal portion of placenta)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D993-E0BB-4A84-BD68-D52A2CF69F06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alibri"/>
                <a:ea typeface="Times New Roman"/>
              </a:rPr>
              <a:t>Early Stages of Development from Fertilization to Impla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D511-D3DD-44CD-B34B-5B689EF61EC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7" name="Picture 8" descr="20f26"/>
          <p:cNvPicPr/>
          <p:nvPr/>
        </p:nvPicPr>
        <p:blipFill>
          <a:blip r:embed="rId1"/>
          <a:stretch/>
        </p:blipFill>
        <p:spPr>
          <a:xfrm>
            <a:off x="228600" y="1359000"/>
            <a:ext cx="8686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FUNCTIONS OF PLACENT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9" name=""/>
          <p:cNvSpPr txBox="1"/>
          <p:nvPr/>
        </p:nvSpPr>
        <p:spPr>
          <a:xfrm>
            <a:off x="304920" y="1295280"/>
            <a:ext cx="85341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acenta performs the functions of Digestive system, Respiratory system and Kidney for the fet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Nutrition and O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 to fetus from maternal blood across the placental barr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ts as transient, complex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Arial"/>
              </a:rPr>
              <a:t>endocr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rgan that secretes essential pregnancy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Human chorionic gonadotropin (HC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Estro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Progester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Human Chorionic Somatomammotrop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D0AB-BA40-43CA-ADDC-2B17A3E0B37C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1" name=""/>
          <p:cNvSpPr txBox="1"/>
          <p:nvPr/>
        </p:nvSpPr>
        <p:spPr>
          <a:xfrm>
            <a:off x="609480" y="1828440"/>
            <a:ext cx="7848720" cy="198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eorgia"/>
              </a:rPr>
              <a:t>Placental hormones</a:t>
            </a:r>
            <a:endParaRPr b="0" lang="en-US" sz="54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2" name="PlaceHolder 1"/>
          <p:cNvSpPr>
            <a:spLocks noGrp="1"/>
          </p:cNvSpPr>
          <p:nvPr>
            <p:ph type="title"/>
          </p:nvPr>
        </p:nvSpPr>
        <p:spPr>
          <a:xfrm>
            <a:off x="837720" y="75600"/>
            <a:ext cx="7696440" cy="91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lacental hormones</a:t>
            </a:r>
            <a:endParaRPr b="1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3" name="Rectangle 1"/>
          <p:cNvSpPr/>
          <p:nvPr/>
        </p:nvSpPr>
        <p:spPr>
          <a:xfrm>
            <a:off x="295200" y="1376640"/>
            <a:ext cx="8305920" cy="54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lacenta secretes hormones for maintaining pregnancy and preparing mother f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bor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tation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ff"/>
                </a:solidFill>
                <a:uFillTx/>
                <a:latin typeface="Tahoma"/>
                <a:ea typeface="SimSun"/>
              </a:rPr>
              <a:t>1- Estroge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ecreted from Corpus Luteum at 1st trimester, After that Placenta secretes Estri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ates growth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ometri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ing uterine strength for partur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developmen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mammary gland preparing for lactation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aus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nlargem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female external genitalia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l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acroiliac joint and symphysis pubis ligaments for la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r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Hani Mohammed</cp:lastModifiedBy>
  <dcterms:modified xsi:type="dcterms:W3CDTF">2016-03-31T10:25:32Z</dcterms:modified>
  <cp:revision>97</cp:revision>
  <dc:subject/>
  <dc:title>Slide 1</dc:title>
</cp:coreProperties>
</file>